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179-FEB6-4FD6-95E6-E72FD4312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2A6-2305-4322-999D-A7E7CEE549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940B-D166-4C7C-82E6-67F6448775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3205-6132-4A75-B8D3-4D57E8B422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B1B-98CF-4AC4-B518-55242AE0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6C7-DA37-4FF8-B6CE-4C58C2D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08B-CF5D-432A-831F-4B6FC79C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97D-C352-44E4-BC6F-01AAF377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952-9732-4094-8BC7-E320098A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8B6-4636-4978-8830-01F19791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BF3-A55A-4663-BC91-6C1F6023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5EDF-41D5-4D14-91AB-65A5A1A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2A0-DC5D-4C00-A122-A5D1DA5B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789-D4F2-4C2B-9717-83E8B4B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CEA1-17BE-4803-9ACF-52638910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B41-2EF8-4337-99F9-E91616F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5794-032E-422E-AEA9-8975F5D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F3D-98B4-4B2D-916C-A773FAF1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11DE-9220-4090-8D32-5676427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D95-CBB5-411F-AA95-CAD8216A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153-761D-4E6D-855D-2C1023DC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288-8313-4341-AC8B-2E066BD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A15-BB92-429D-A077-010D609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39F-3339-442E-B622-557F48F7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71A-4502-4E98-8148-611F9A4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FB9-2DD4-4F6E-B9BC-F0FC4796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55C-BB32-4B3F-B4CA-03C33EC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1F6-3BE6-405F-A8CA-5488EF84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448-585B-43D2-AC29-0CFDC646F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CC9-F6B6-45B9-8BB1-2546648DDC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Arial"/>
              </a:rPr>
              <a:t>ОТЧЕТ </a:t>
            </a: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Arial"/>
              </a:rPr>
              <a:t>об исполнении бюджета 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Родниковского городского поселения </a:t>
            </a:r>
            <a:br>
              <a:rPr sz="6000"/>
            </a:br>
            <a:r>
              <a:rPr b="0" i="1" lang="ru-RU" sz="6000" spc="-1" strike="noStrike">
                <a:solidFill>
                  <a:srgbClr val="ffffff"/>
                </a:solidFill>
                <a:latin typeface="Arial"/>
              </a:rPr>
              <a:t>за 2020 го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основных характеристик бюдже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дниковского городского поселе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2020 год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905120"/>
          <a:ext cx="8381880" cy="3127320"/>
        </p:xfrm>
        <a:graphic>
          <a:graphicData uri="http://schemas.openxmlformats.org/drawingml/2006/table">
            <a:tbl>
              <a:tblPr/>
              <a:tblGrid>
                <a:gridCol w="4724280"/>
                <a:gridCol w="36576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2 917 659,5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 002 108,4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 448,8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762120" y="1143000"/>
          <a:ext cx="8001000" cy="5033880"/>
        </p:xfrm>
        <a:graphic>
          <a:graphicData uri="http://schemas.openxmlformats.org/drawingml/2006/table">
            <a:tbl>
              <a:tblPr/>
              <a:tblGrid>
                <a:gridCol w="579096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6 143 910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711 145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си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640 283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в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478,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 межбюджетные трансф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108 343,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бюджетов городских поселений от возврата остатков субсидий, субвенций и иных межбюджетных трансфертов, имеющих целевое назна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961 265,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т остатков субсидий, субвенций и иных межбюджетных трансфертов, имеющих 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 649 767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2 917 659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Прямоугольник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нение доходов бюджета Родниковского городского поселения за 2020 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уктура доходов бюджета Родниковского городского поселения  за 2020 год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Диаграмма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96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Структура налоговых доход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бюджета Родниковского городского посел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                               за 2020 год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바탕"/>
                <a:ea typeface="바탕"/>
              </a:rPr>
              <a:t>(тыс.руб.)       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Таблица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534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еналоговых доходов бюджета Родниковского городского поселения за 2020 год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Таблица 3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282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нение бюджета Родниковского городского поселения за 2020 год по разделам классификации расходов бюджета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880" y="1523880"/>
          <a:ext cx="8382240" cy="4641840"/>
        </p:xfrm>
        <a:graphic>
          <a:graphicData uri="http://schemas.openxmlformats.org/drawingml/2006/table">
            <a:tbl>
              <a:tblPr/>
              <a:tblGrid>
                <a:gridCol w="6324840"/>
                <a:gridCol w="2057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совое испол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043 890,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 478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 965 047,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 316 315,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837 8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 и кинематограф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613 877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4 0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277 698,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 002 108,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уктура расходов бюджета Родниковского городского поселения по разделам классификации расходов бюджетов за 2020 год              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(рублей)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Содержимое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Исполнение бюджет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одниковского городского поселения за 2020 год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 муниципальным програм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1677960"/>
          <a:ext cx="8382240" cy="4572000"/>
        </p:xfrm>
        <a:graphic>
          <a:graphicData uri="http://schemas.openxmlformats.org/drawingml/2006/table">
            <a:tbl>
              <a:tblPr/>
              <a:tblGrid>
                <a:gridCol w="6185160"/>
                <a:gridCol w="219708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совое исполнение (руб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Благоустройство территории Родниковского городского поселения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04 565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филактика правонарушений и обеспечение безопасности граждан на территории Родниковского городского поселения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384 333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циальная забота и поддержка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38 702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ультурное пространство города Родник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729 376,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жилищно-коммунального хозяйства в Родниковском городском поселени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520 541,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Формирование современной городской среды на территории муниципального образования "Родниковское городское поселение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 52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 798 038,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 Балакирева_</dc:creator>
  <dc:description/>
  <dc:language>en-US</dc:language>
  <cp:lastModifiedBy>balakirevang</cp:lastModifiedBy>
  <dcterms:modified xsi:type="dcterms:W3CDTF">2021-03-26T14:14:12Z</dcterms:modified>
  <cp:revision>4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