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8.wmf" ContentType="image/x-wmf"/>
  <Override PartName="/ppt/media/image24.jpeg" ContentType="image/jpeg"/>
  <Override PartName="/ppt/media/image3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2.jpeg" ContentType="image/jpeg"/>
  <Override PartName="/ppt/media/image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C420-91A4-4B78-826A-173DA8ACD1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A5A9-9C39-490F-92EF-2A1A3B0FE0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47C-7BF7-44C6-ADF4-ADFD31BD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F85-105E-4A99-B21F-1B28875B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B8E-106B-4640-8B9E-A5977CF9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FF6-5B8D-4F82-B4F5-442294BC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73969-18C9-44C5-B8B5-903EE30B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DDDB8-96BF-4A52-96AB-EFDAC3D4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845C9-31C8-4DFF-8E24-7C696055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C8AF4-CB93-43DC-9EAC-4F8ACD64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85013-9B7D-4934-B2F7-CBA98677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2E653-262D-4BCD-B2B0-5B9F5BEC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5AE66-9E44-436B-A841-5334730C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3F7-9AB2-4C71-82D1-48C92D4B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752A6-52A1-42F6-B226-2145FD9C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0AC70-8055-4CCF-B6F4-1E83EFEC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3E6FE-347F-4839-9D51-59CA2321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66245-841D-42DA-A1ED-E155AE54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FAA26-0EA9-4E9F-A4D4-F0E6E7AB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BB76C-4FD6-4A81-B376-EB7E0300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FA49-E193-4C9A-9848-7311A5B1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AFB7-185A-444C-8337-DBFE1AF8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F2254-0B9A-439D-A1E5-016C6B1B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4610-A226-4338-B737-C28753FF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49F-A55E-4BC1-A03B-B720F140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B3B8C-4798-4576-ADE4-6632C348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7E90-0A79-4EC9-A615-5B29B2D0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E351C-C719-4152-8A7F-1E3B53C3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30BDB-597E-43C7-AD23-BF086FD3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3C0AD-C386-42C6-8E87-317EBE2B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2AC95-B4C6-4D43-81DA-114A8DCC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900C-F8FC-411A-A49E-5ABBB5DF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DCA6-88C5-4AD1-AE96-242E9413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D58-A875-454A-95E1-934EBE2E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C2D-4694-4976-8D01-2CB5C640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81D-BA83-4C8D-8453-5A3C1172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47D-72E1-44B3-A69B-86A51F85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F59-396E-48EF-80C6-FFF562B8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0fd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A3E0-ECC9-4B74-B1F4-CC3130DF58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C16E-BC99-4F49-B8B2-C29E66883D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97360" y="274680"/>
              <a:ext cx="1548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97360" y="409680"/>
              <a:ext cx="1548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620640" y="3583080"/>
                <a:ext cx="6292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858680" y="1690560"/>
                <a:ext cx="6292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858680" y="2324160"/>
                <a:ext cx="6292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620640" y="2948040"/>
                <a:ext cx="6292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AB59-C5F7-4AE0-A8EA-80351C6DB1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rodniki-37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0fd"/>
            </a:gs>
            <a:gs pos="100000">
              <a:srgbClr val="c9d1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690280" y="6237360"/>
            <a:ext cx="483732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7d"/>
                </a:solidFill>
                <a:latin typeface="Times New Roman"/>
              </a:rPr>
              <a:t>по проекту бюджета Родниковского городского поселения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3470400" y="4292640"/>
            <a:ext cx="3043080" cy="18651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1531800" y="593640"/>
            <a:ext cx="6910560" cy="35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7d"/>
                </a:solidFill>
                <a:latin typeface="Bookman Old Style"/>
              </a:rPr>
              <a:t>Бюджет для</a:t>
            </a:r>
            <a:br>
              <a:rPr sz="7200"/>
            </a:br>
            <a:r>
              <a:rPr b="1" lang="ru-RU" sz="7200" spc="-1" strike="noStrike">
                <a:solidFill>
                  <a:srgbClr val="e7f0fd"/>
                </a:solidFill>
                <a:latin typeface="Bookman Old Style"/>
              </a:rPr>
              <a:t>граждан</a:t>
            </a:r>
            <a:br>
              <a:rPr sz="7200"/>
            </a:br>
            <a:r>
              <a:rPr b="1" lang="ru-RU" sz="7200" spc="-1" strike="noStrike">
                <a:solidFill>
                  <a:srgbClr val="e7f0fd"/>
                </a:solidFill>
                <a:latin typeface="Bookman Old Style"/>
              </a:rPr>
              <a:t>на 2016 го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4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4AA0-7A60-449F-B638-9686C0B05A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7880" y="283680"/>
            <a:ext cx="918216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99"/>
                </a:solidFill>
                <a:latin typeface="Bookman Old Style"/>
              </a:rPr>
              <a:t>Основные характеристики бюджета Родниковского городского поселения на 2016 го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825480" y="925560"/>
          <a:ext cx="8399520" cy="5045040"/>
        </p:xfrm>
        <a:graphic>
          <a:graphicData uri="http://schemas.openxmlformats.org/drawingml/2006/table">
            <a:tbl>
              <a:tblPr/>
              <a:tblGrid>
                <a:gridCol w="6767640"/>
                <a:gridCol w="1631880"/>
              </a:tblGrid>
              <a:tr h="8301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оект бюдже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923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11915569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0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7515469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080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8320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208506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89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-893503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857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93503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91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93503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 т.ч. - пол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935030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погаш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изменение остатков средств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000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ношение дефицита бюджета к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64" name="Rectangle 2081"/>
          <p:cNvSpPr/>
          <p:nvPr/>
        </p:nvSpPr>
        <p:spPr>
          <a:xfrm>
            <a:off x="8542440" y="69228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Times New Roman"/>
              </a:rPr>
              <a:t>руб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090"/>
          <p:cNvSpPr/>
          <p:nvPr/>
        </p:nvSpPr>
        <p:spPr>
          <a:xfrm>
            <a:off x="351000" y="692280"/>
            <a:ext cx="920412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7B13-4EB1-4D4E-BB6F-9DBDDD6009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17080"/>
            <a:ext cx="89154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Доходы бюджета Родниковского городского посе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7600" y="83664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Доходы бюджета  образуются за счет налоговых и неналоговых доходов, а также за счет безвозмездных поступлен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341280" y="826920"/>
            <a:ext cx="920448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3782880" y="164772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465120" y="3406680"/>
            <a:ext cx="2703600" cy="230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доходы – поступления в бюджет от уплаты налогов, установленных Налоговым кодексом Р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517920" y="3424320"/>
            <a:ext cx="2728800" cy="2303280"/>
          </a:xfrm>
          <a:prstGeom prst="rect">
            <a:avLst/>
          </a:prstGeom>
          <a:solidFill>
            <a:srgbClr val="ff505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алоговые доходы – поступления от уплаты пошлин и сборов, установленных законодательством РФ и штрафов за нарушение законодатель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594480" y="3402000"/>
            <a:ext cx="3030480" cy="2316240"/>
          </a:xfrm>
          <a:prstGeom prst="rect">
            <a:avLst/>
          </a:prstGeom>
          <a:solidFill>
            <a:srgbClr val="6699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- это финансовая помощь из бюджетов других уровней (межбюджетные трансферты), от физических и юридических лиц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9"/>
          <p:cNvSpPr/>
          <p:nvPr/>
        </p:nvSpPr>
        <p:spPr>
          <a:xfrm rot="2313000">
            <a:off x="6264000" y="22050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6699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1"/>
          <p:cNvSpPr/>
          <p:nvPr/>
        </p:nvSpPr>
        <p:spPr>
          <a:xfrm rot="7897200">
            <a:off x="1884600" y="2150280"/>
            <a:ext cx="1611360" cy="88236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360"/>
              <a:gd name="textAreaBottom" fmla="*/ 764280 h 88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4543560" y="283212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2D82-B916-46AD-AE6E-1C34188E6D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139320"/>
            <a:ext cx="8915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Структура доходов бюджета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Родниковское городское поселение в 2016 го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503280" y="1511280"/>
            <a:ext cx="920412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5"/>
          <p:cNvGraphicFramePr/>
          <p:nvPr/>
        </p:nvGraphicFramePr>
        <p:xfrm>
          <a:off x="431640" y="1393920"/>
          <a:ext cx="9198000" cy="44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1393920"/>
                    <a:ext cx="919800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97A9-484A-4A58-8001-A7A99EE1C1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Расходы бюджета Родниковского городского  поселени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5000" y="922320"/>
            <a:ext cx="89154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Расходы бюджета – денежные средства, направляемые на финансовое обеспечение задач и функций государства и местного самоуправления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301680" y="960480"/>
            <a:ext cx="920412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3782880" y="169704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расхо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признак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36600" y="3386160"/>
            <a:ext cx="2801880" cy="2612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ункциональна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лассификация отражает направление средств бюджета на выполнение основных функций государства (раздел→ подраздел→ целевые статьи→ виды расходов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3414600" y="3425760"/>
            <a:ext cx="2801880" cy="2613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домственна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ассификация расходов бюджета непосредственно связана со структурой управления, она отображает группировку юридических лиц, получающих бюджетные средства (главные распорядители средств бюджет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6413400" y="3435480"/>
            <a:ext cx="3108600" cy="2612880"/>
          </a:xfrm>
          <a:prstGeom prst="rect">
            <a:avLst/>
          </a:pr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ономическа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лассификация показывает деление расходов государства на текущие и капитальные, а также на выплату заработной платы, на материальные затраты, на приобретение товаров и услуг (категория расходов→ группы→ предметные статьи→ подстать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0"/>
          <p:cNvSpPr/>
          <p:nvPr/>
        </p:nvSpPr>
        <p:spPr>
          <a:xfrm rot="7897200">
            <a:off x="1767600" y="2100600"/>
            <a:ext cx="1611360" cy="88272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11"/>
          <p:cNvSpPr/>
          <p:nvPr/>
        </p:nvSpPr>
        <p:spPr>
          <a:xfrm rot="2313000">
            <a:off x="6381360" y="21654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12"/>
          <p:cNvSpPr/>
          <p:nvPr/>
        </p:nvSpPr>
        <p:spPr>
          <a:xfrm>
            <a:off x="4543560" y="286056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000"/>
                            </p:stCondLst>
                            <p:childTnLst>
                              <p:par>
                                <p:cTn id="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80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5FCA-3540-4C7B-BC82-895FC821BE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3000" y="338040"/>
            <a:ext cx="8915400" cy="4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3399"/>
                </a:solidFill>
                <a:latin typeface="Bookman Old Style"/>
              </a:rPr>
              <a:t> </a:t>
            </a:r>
            <a:r>
              <a:rPr b="1" lang="ru-RU" sz="1900" spc="-1" strike="noStrike">
                <a:solidFill>
                  <a:srgbClr val="333399"/>
                </a:solidFill>
                <a:latin typeface="Bookman Old Style"/>
              </a:rPr>
              <a:t>Структура расходов бюджета Родниковского городского поселения  в 2016 году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409680" y="861840"/>
            <a:ext cx="920412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54120" y="1290600"/>
          <a:ext cx="8883720" cy="4199040"/>
        </p:xfrm>
        <a:graphic>
          <a:graphicData uri="http://schemas.openxmlformats.org/drawingml/2006/table">
            <a:tbl>
              <a:tblPr/>
              <a:tblGrid>
                <a:gridCol w="6272280"/>
                <a:gridCol w="1069920"/>
                <a:gridCol w="1541520"/>
              </a:tblGrid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аздел, подразде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умма (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1 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 018 3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6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к общей сумме рас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3 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0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6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к общей сумме рас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АЦИОНАЛЬНАЯ ЭКОНОМ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4 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 355 3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6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к общей сумме рас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,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5 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4 897 5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6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к общей сумме рас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5,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БРАЗ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7 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 142 5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6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к общей сумме рас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,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УЛЬТУРА, КИНЕМАТОГРАФ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8 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9 349 7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6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к общей сумме рас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6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 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6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6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к общей сумме рас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,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ФИЗИЧЕСКАЯ КУЛЬТУРА И СП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 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6 351 3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6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к общей сумме рас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 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0 0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6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к общей сумме расх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0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76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0 850 6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43D8-B17A-4D15-8F9A-2A04AB807F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3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Перечень муниципальных программ Родниковского городского поселения на 2016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3"/>
          <p:cNvSpPr/>
          <p:nvPr/>
        </p:nvSpPr>
        <p:spPr>
          <a:xfrm>
            <a:off x="365040" y="1139760"/>
            <a:ext cx="920448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39560" y="1549440"/>
          <a:ext cx="8856720" cy="3556080"/>
        </p:xfrm>
        <a:graphic>
          <a:graphicData uri="http://schemas.openxmlformats.org/drawingml/2006/table">
            <a:tbl>
              <a:tblPr/>
              <a:tblGrid>
                <a:gridCol w="7426440"/>
                <a:gridCol w="143028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.Муниципальная программа Родниковского городского поселения "Благоустройство территории Родниковского городского поселения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7 678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.Муниципальная программа Родниковского городского поселения "Безопасный город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6 561 8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.Муниципальная программа Родниковского городского поселения "Социальная забота и поддержк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 877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.Муниципальная программа Родниковского городского поселения "Культурное пространство города Родник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 853 9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.Муниципальная программа Родниковского городского поселения "Развитие жилищно-коммунального хозяйства в Родниковском городском поселени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 297 8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того расходов на реализацию програ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8 268 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999D-A5D8-4207-BCE4-9F83158D22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14080" y="147600"/>
            <a:ext cx="891540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Источники финансирования дефицита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74200" y="852120"/>
            <a:ext cx="89154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В процессе принятия и исполнения бюджета Родниковского городского поселения большое значение приобретает сбалансированность доходов и расходов. Если доходы превышают расходы, то возникает </a:t>
            </a: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профицит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. Но чаще всего расходы превышают доходы. В таком случае возникает </a:t>
            </a: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дефицит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4"/>
          <p:cNvSpPr/>
          <p:nvPr/>
        </p:nvSpPr>
        <p:spPr>
          <a:xfrm>
            <a:off x="341280" y="673200"/>
            <a:ext cx="920448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1317600" y="1984320"/>
            <a:ext cx="7224840" cy="360360"/>
          </a:xfrm>
          <a:prstGeom prst="rect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сточниками финансирования дефицита бюджета гор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627120" y="2938320"/>
            <a:ext cx="220968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33399"/>
                </a:solidFill>
                <a:uFillTx/>
                <a:latin typeface="Times New Roman"/>
              </a:rPr>
              <a:t>муниципальные займы,</a:t>
            </a:r>
            <a:r>
              <a:rPr b="0" lang="ru-RU" sz="1400" spc="-1" strike="noStrike">
                <a:solidFill>
                  <a:srgbClr val="333399"/>
                </a:solidFill>
                <a:latin typeface="Times New Roman"/>
              </a:rPr>
              <a:t> осуществляемые путем выпуска муниципальных ценных бумаг от имен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046320" y="2921040"/>
            <a:ext cx="1954440" cy="1695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33399"/>
                </a:solidFill>
                <a:uFillTx/>
                <a:latin typeface="Times New Roman"/>
              </a:rPr>
              <a:t>бюджетные кредиты,</a:t>
            </a:r>
            <a:r>
              <a:rPr b="0" lang="ru-RU" sz="1400" spc="-1" strike="noStrike">
                <a:solidFill>
                  <a:srgbClr val="333399"/>
                </a:solidFill>
                <a:latin typeface="Times New Roman"/>
              </a:rPr>
              <a:t> полученные от бюджетов других уровней бюджетной системы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5119560" y="2919240"/>
            <a:ext cx="199260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33399"/>
                </a:solidFill>
                <a:uFillTx/>
                <a:latin typeface="Times New Roman"/>
              </a:rPr>
              <a:t>кредит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Times New Roman"/>
              </a:rPr>
              <a:t>полученные от кредитных 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7253280" y="2909880"/>
            <a:ext cx="1982880" cy="1695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33399"/>
                </a:solidFill>
                <a:uFillTx/>
                <a:latin typeface="Times New Roman"/>
              </a:rPr>
              <a:t>изменение остатков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Times New Roman"/>
              </a:rPr>
              <a:t>средств на счетах по учету средств местного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0"/>
          <p:cNvSpPr/>
          <p:nvPr/>
        </p:nvSpPr>
        <p:spPr>
          <a:xfrm>
            <a:off x="4941720" y="2327400"/>
            <a:ext cx="11160" cy="3538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1"/>
          <p:cNvSpPr/>
          <p:nvPr/>
        </p:nvSpPr>
        <p:spPr>
          <a:xfrm>
            <a:off x="1724040" y="269712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"/>
          <p:cNvSpPr/>
          <p:nvPr/>
        </p:nvSpPr>
        <p:spPr>
          <a:xfrm>
            <a:off x="4048200" y="270036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3"/>
          <p:cNvSpPr/>
          <p:nvPr/>
        </p:nvSpPr>
        <p:spPr>
          <a:xfrm>
            <a:off x="6093000" y="2690640"/>
            <a:ext cx="0" cy="24480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4"/>
          <p:cNvSpPr/>
          <p:nvPr/>
        </p:nvSpPr>
        <p:spPr>
          <a:xfrm>
            <a:off x="8205840" y="268920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5"/>
          <p:cNvSpPr/>
          <p:nvPr/>
        </p:nvSpPr>
        <p:spPr>
          <a:xfrm>
            <a:off x="1731960" y="2689200"/>
            <a:ext cx="6488280" cy="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6"/>
          <p:cNvSpPr/>
          <p:nvPr/>
        </p:nvSpPr>
        <p:spPr>
          <a:xfrm flipV="1">
            <a:off x="284040" y="5049360"/>
            <a:ext cx="6880320" cy="190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7"/>
          <p:cNvSpPr/>
          <p:nvPr/>
        </p:nvSpPr>
        <p:spPr>
          <a:xfrm flipV="1">
            <a:off x="291960" y="469548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8"/>
          <p:cNvSpPr/>
          <p:nvPr/>
        </p:nvSpPr>
        <p:spPr>
          <a:xfrm flipV="1">
            <a:off x="7153200" y="468432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1865160" y="5162400"/>
            <a:ext cx="3044880" cy="916200"/>
          </a:xfrm>
          <a:prstGeom prst="rect">
            <a:avLst/>
          </a:prstGeom>
          <a:solidFill>
            <a:srgbClr val="ffccff"/>
          </a:solidFill>
          <a:ln w="158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33399"/>
                </a:solidFill>
                <a:uFillTx/>
                <a:latin typeface="Times New Roman"/>
              </a:rPr>
              <a:t>муниципальный долг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Times New Roman"/>
              </a:rPr>
              <a:t>то есть совокупность долговых обязательств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4000"/>
                            </p:stCondLst>
                            <p:childTnLst>
                              <p:par>
                                <p:cTn id="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600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0000"/>
                            </p:stCondLst>
                            <p:childTnLst>
                              <p:par>
                                <p:cTn id="6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BC94-070A-4581-9D8A-ACF77855CF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7600" y="165240"/>
            <a:ext cx="89154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Bookman Old Style"/>
              </a:rPr>
              <a:t>Муниципальный долг Родниковского городского поселения в 2016 год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528480" y="1335240"/>
          <a:ext cx="6191280" cy="1495440"/>
        </p:xfrm>
        <a:graphic>
          <a:graphicData uri="http://schemas.openxmlformats.org/drawingml/2006/table">
            <a:tbl>
              <a:tblPr/>
              <a:tblGrid>
                <a:gridCol w="2476800"/>
                <a:gridCol w="850680"/>
                <a:gridCol w="1084320"/>
                <a:gridCol w="927000"/>
                <a:gridCol w="8524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долга на 01.01.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лечение заемных сред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дол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долга на 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оммерческих бан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й 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935 030,11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935 030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935 030,11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935 030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23" name="Rectangle 162"/>
          <p:cNvSpPr/>
          <p:nvPr/>
        </p:nvSpPr>
        <p:spPr>
          <a:xfrm>
            <a:off x="3441600" y="4157640"/>
            <a:ext cx="32450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м расходов на обслуживание муниципального долга, всего 1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том числе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юджетный кредит  100 000ру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18"/>
          <p:cNvSpPr/>
          <p:nvPr/>
        </p:nvSpPr>
        <p:spPr>
          <a:xfrm>
            <a:off x="6211800" y="782640"/>
            <a:ext cx="54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20"/>
          <p:cNvSpPr/>
          <p:nvPr/>
        </p:nvSpPr>
        <p:spPr>
          <a:xfrm>
            <a:off x="328680" y="825480"/>
            <a:ext cx="920412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229" descr="i?id=541359906-37-72"/>
          <p:cNvPicPr/>
          <p:nvPr/>
        </p:nvPicPr>
        <p:blipFill>
          <a:blip r:embed="rId1"/>
          <a:stretch/>
        </p:blipFill>
        <p:spPr>
          <a:xfrm>
            <a:off x="360360" y="3333600"/>
            <a:ext cx="2647800" cy="2219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31" descr="i?id=211768809-33-72"/>
          <p:cNvPicPr/>
          <p:nvPr/>
        </p:nvPicPr>
        <p:blipFill>
          <a:blip r:embed="rId2"/>
          <a:stretch/>
        </p:blipFill>
        <p:spPr>
          <a:xfrm>
            <a:off x="6983280" y="3301920"/>
            <a:ext cx="220500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0"/>
                            </p:stCondLst>
                            <p:childTnLst>
                              <p:par>
                                <p:cTn id="6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6803-32CE-40A3-8762-BAF5737390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250920"/>
            <a:ext cx="89154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Обращение к жителям города Род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23440" y="1166760"/>
            <a:ext cx="89154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Уважаемые жители и гости города Родники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Обращаем Ваше внимание на то, что </a:t>
            </a: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бюджет для граждан на 2016 год составлен по проекту бюджета Родниковского городского поселения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и носит ознакомительный и осведомительный характер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Окончательный вариант бюджета  Родниковского городского поселения на 2016 год будет утвержден решением Совета муниципального образования «Родниковское городское поселение Родниковского муниципального района Ивановской области», после соблюдения всех процедур по рассмотрению и принятию бюдже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 решением Совета муниципального образования «Родниковское городское поселение Родниковского муниципального района Ивановской области», «О бюджете Родниковского городского поселения на 2016 год», а так же с последующими внесенными изменениями в данное решение, можно ознакомится на официальном сайте Родниковского муниципального район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rodniki-37.ru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312840" y="865080"/>
            <a:ext cx="920412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1300"/>
                            </p:stCondLst>
                            <p:childTnLst>
                              <p:par>
                                <p:cTn id="7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4300"/>
                            </p:stCondLst>
                            <p:childTnLst>
                              <p:par>
                                <p:cTn id="7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98500"/>
                            </p:stCondLst>
                            <p:childTnLst>
                              <p:par>
                                <p:cTn id="7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3190-7159-4AB6-ABE2-79A6E5AD8F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07600" y="1136520"/>
            <a:ext cx="8969400" cy="478944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t">
            <a:normAutofit/>
          </a:bodyPr>
          <a:p>
            <a:pPr marL="144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7d"/>
                </a:solidFill>
                <a:latin typeface="Times New Roman"/>
              </a:rPr>
              <a:t>Бюджет играет центральную роль в экономике города и решении различных проблем в его развитии. Внимательное изучение бюджета дает представление о намерениях власти, ее политике, распределении ею финансовых ресурсов. Благодаря анализу бюджета можно установить, как распределяются денежные средства, расходуются ли они по назначению. Контроль за местным бюджетом особенно уместен, если иметь в виду, что он формируется за счет граждан и организаций. Эти средства изымаются в виде налогов, различных сборов и пошлин у физических и юридических лиц для проведения значимой для общества деятельности. Проверка фактического использования бюджетных средств закономерный и обязательный процесс, особенно в условия недостатка имеющихся резервов. Именно поэтому пришло время для опубликования простого и доступного для каждого гражданина анализа бюджета и бюджетных процессов. И мы надеемся что данная презентация послужит обеспечению роста интереса граждан к вопросам использования бюджета. Ведь только при наличии у граждан чувства собственной причастности к бюджетному процессу и возможности высказать свое мнение можно рассчитывать на то, что население будет добросовестно участвовать как в формировании бюджета, так и его исполнени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076480" y="511200"/>
            <a:ext cx="5732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Bookman Old Style"/>
              </a:rPr>
              <a:t>Предислов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D5AF-B649-4F98-9FA4-7CBC359EF2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189000"/>
            <a:ext cx="8902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Bookman Old Style"/>
              </a:rPr>
              <a:t>Что такое бюджет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93680" y="3429000"/>
            <a:ext cx="9363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БЮДЖЕТ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333399"/>
                </a:solidFill>
                <a:latin typeface="Times New Roman"/>
              </a:rPr>
              <a:t>(от старонормандского </a:t>
            </a:r>
            <a:r>
              <a:rPr b="1" lang="en-US" sz="1500" spc="-1" strike="noStrike">
                <a:solidFill>
                  <a:srgbClr val="333399"/>
                </a:solidFill>
                <a:latin typeface="Times New Roman"/>
              </a:rPr>
              <a:t>bougette </a:t>
            </a:r>
            <a:r>
              <a:rPr b="1" lang="ru-RU" sz="1500" spc="-1" strike="noStrike">
                <a:solidFill>
                  <a:srgbClr val="333399"/>
                </a:solidFill>
                <a:latin typeface="Times New Roman"/>
              </a:rPr>
              <a:t>– кошель, сумка, кожаный мешок) –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93680" y="901080"/>
            <a:ext cx="22636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Times New Roman"/>
              </a:rPr>
              <a:t>это поступающие в бюджет денежные средства (налоги юридических и физических лиц, административные платежи и сборы, безвозмездные поступления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1" descr=""/>
          <p:cNvPicPr/>
          <p:nvPr/>
        </p:nvPicPr>
        <p:blipFill>
          <a:blip r:embed="rId1"/>
          <a:stretch/>
        </p:blipFill>
        <p:spPr>
          <a:xfrm>
            <a:off x="3470400" y="4221000"/>
            <a:ext cx="2806560" cy="170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2"/>
          <p:cNvSpPr/>
          <p:nvPr/>
        </p:nvSpPr>
        <p:spPr>
          <a:xfrm>
            <a:off x="6885000" y="1024920"/>
            <a:ext cx="273060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Times New Roman"/>
              </a:rPr>
              <a:t>это выплачиваемые из бюджета денежные средства (социальные выплаты населению, содержание государственных учреждений (образование, ЖКХ, культура и другие) капитальное строительство и другие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3"/>
          <p:cNvSpPr/>
          <p:nvPr/>
        </p:nvSpPr>
        <p:spPr>
          <a:xfrm flipH="1">
            <a:off x="2925360" y="494172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6278400" y="4941720"/>
            <a:ext cx="547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271440" y="4366440"/>
            <a:ext cx="24973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Times New Roman"/>
              </a:rPr>
              <a:t>превышение доходов над расходами образует положительный остаток бюджета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ПРОФИЦ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6746760" y="4366080"/>
            <a:ext cx="257508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Times New Roman"/>
              </a:rPr>
              <a:t>если расходная часть бюджета превышает доходную, то бюджет формируется с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ЕФИЦИ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193680" y="6035400"/>
            <a:ext cx="9283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Times New Roman"/>
              </a:rPr>
              <a:t>Сбалансированность бюджета по доходам и расходам – основополагающее требование, предъявляемое к органам, составляющим и утверждающим бюджет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1" descr=""/>
          <p:cNvPicPr/>
          <p:nvPr/>
        </p:nvPicPr>
        <p:blipFill>
          <a:blip r:embed="rId2"/>
          <a:stretch/>
        </p:blipFill>
        <p:spPr>
          <a:xfrm>
            <a:off x="2846520" y="1052640"/>
            <a:ext cx="3871800" cy="2394000"/>
          </a:xfrm>
          <a:prstGeom prst="rect">
            <a:avLst/>
          </a:prstGeom>
          <a:ln w="0">
            <a:noFill/>
          </a:ln>
        </p:spPr>
      </p:pic>
      <p:sp>
        <p:nvSpPr>
          <p:cNvPr id="172" name="Line 22"/>
          <p:cNvSpPr/>
          <p:nvPr/>
        </p:nvSpPr>
        <p:spPr>
          <a:xfrm>
            <a:off x="351000" y="765000"/>
            <a:ext cx="920412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6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390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790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64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69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900"/>
                            </p:stCondLst>
                            <p:childTnLst>
                              <p:par>
                                <p:cTn id="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6000"/>
                            </p:stCondLst>
                            <p:childTnLst>
                              <p:par>
                                <p:cTn id="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7000"/>
                            </p:stCondLst>
                            <p:childTnLst>
                              <p:par>
                                <p:cTn id="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5100"/>
                            </p:stCondLst>
                            <p:childTnLst>
                              <p:par>
                                <p:cTn id="1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A376-1E4F-4832-929B-F0EBE9647A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ookman Old Style"/>
              </a:rPr>
              <a:t>Какие бывают бюджет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62040" y="907920"/>
            <a:ext cx="1636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6"/>
          <p:cNvSpPr/>
          <p:nvPr/>
        </p:nvSpPr>
        <p:spPr>
          <a:xfrm flipH="1">
            <a:off x="2707920" y="868320"/>
            <a:ext cx="770040" cy="317520"/>
          </a:xfrm>
          <a:prstGeom prst="line">
            <a:avLst/>
          </a:prstGeom>
          <a:ln w="5076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4952880" y="765000"/>
            <a:ext cx="0" cy="936720"/>
          </a:xfrm>
          <a:prstGeom prst="line">
            <a:avLst/>
          </a:prstGeom>
          <a:ln w="5076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6356520" y="836640"/>
            <a:ext cx="782640" cy="368280"/>
          </a:xfrm>
          <a:prstGeom prst="line">
            <a:avLst/>
          </a:prstGeom>
          <a:ln w="5076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314880" y="184428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7059600" y="836640"/>
            <a:ext cx="2652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Бюджет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1"/>
          <a:stretch/>
        </p:blipFill>
        <p:spPr>
          <a:xfrm>
            <a:off x="7283520" y="1265400"/>
            <a:ext cx="219240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"/>
          <p:cNvPicPr/>
          <p:nvPr/>
        </p:nvPicPr>
        <p:blipFill>
          <a:blip r:embed="rId2"/>
          <a:stretch/>
        </p:blipFill>
        <p:spPr>
          <a:xfrm>
            <a:off x="428760" y="3860640"/>
            <a:ext cx="2566800" cy="1368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"/>
          <p:cNvPicPr/>
          <p:nvPr/>
        </p:nvPicPr>
        <p:blipFill>
          <a:blip r:embed="rId3"/>
          <a:stretch/>
        </p:blipFill>
        <p:spPr>
          <a:xfrm>
            <a:off x="3527280" y="3870360"/>
            <a:ext cx="2770200" cy="1398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"/>
          <p:cNvPicPr/>
          <p:nvPr/>
        </p:nvPicPr>
        <p:blipFill>
          <a:blip r:embed="rId4"/>
          <a:stretch/>
        </p:blipFill>
        <p:spPr>
          <a:xfrm>
            <a:off x="7032600" y="3860640"/>
            <a:ext cx="2344680" cy="1382760"/>
          </a:xfrm>
          <a:prstGeom prst="rect">
            <a:avLst/>
          </a:prstGeom>
          <a:ln w="0">
            <a:noFill/>
          </a:ln>
        </p:spPr>
      </p:pic>
      <p:sp>
        <p:nvSpPr>
          <p:cNvPr id="185" name="Line 16"/>
          <p:cNvSpPr/>
          <p:nvPr/>
        </p:nvSpPr>
        <p:spPr>
          <a:xfrm>
            <a:off x="6014880" y="2781360"/>
            <a:ext cx="781200" cy="71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7"/>
          <p:cNvSpPr/>
          <p:nvPr/>
        </p:nvSpPr>
        <p:spPr>
          <a:xfrm>
            <a:off x="4943520" y="2781360"/>
            <a:ext cx="0" cy="863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8"/>
          <p:cNvSpPr/>
          <p:nvPr/>
        </p:nvSpPr>
        <p:spPr>
          <a:xfrm flipH="1">
            <a:off x="3079440" y="2781360"/>
            <a:ext cx="78084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193680" y="530100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3549600" y="524088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6826320" y="5304600"/>
            <a:ext cx="27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2"/>
          <p:cNvSpPr/>
          <p:nvPr/>
        </p:nvSpPr>
        <p:spPr>
          <a:xfrm>
            <a:off x="351000" y="692280"/>
            <a:ext cx="920412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3"/>
          <p:cNvSpPr/>
          <p:nvPr/>
        </p:nvSpPr>
        <p:spPr>
          <a:xfrm>
            <a:off x="3470400" y="2565360"/>
            <a:ext cx="2808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5"/>
          <a:stretch/>
        </p:blipFill>
        <p:spPr>
          <a:xfrm>
            <a:off x="428760" y="1268280"/>
            <a:ext cx="2205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500"/>
                            </p:stCondLst>
                            <p:childTnLst>
                              <p:par>
                                <p:cTn id="1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4500"/>
                            </p:stCondLst>
                            <p:childTnLst>
                              <p:par>
                                <p:cTn id="1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BE3C-6BEA-4C44-8B97-A6801BF9D0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07960" y="5733720"/>
            <a:ext cx="8902800" cy="96516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Местный бюджет</a:t>
            </a:r>
            <a:r>
              <a:rPr b="0" lang="ru-RU" sz="1400" spc="-1" strike="noStrike">
                <a:solidFill>
                  <a:srgbClr val="333399"/>
                </a:solidFill>
                <a:latin typeface="Times New Roman"/>
              </a:rPr>
              <a:t> – одна из составных частей бюджетной системы РФ. Он является финансовой основой деятельности органов местного самоуправления. В бюджете органа местного самоуправления показываются доходы, полученные в данном городе, и расходы, осуществляемые им для реализации функц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84280" y="115920"/>
          <a:ext cx="8813880" cy="5635440"/>
        </p:xfrm>
        <a:graphic>
          <a:graphicData uri="http://schemas.openxmlformats.org/drawingml/2006/table">
            <a:tbl>
              <a:tblPr/>
              <a:tblGrid>
                <a:gridCol w="433440"/>
                <a:gridCol w="423720"/>
                <a:gridCol w="428760"/>
                <a:gridCol w="341280"/>
                <a:gridCol w="217440"/>
                <a:gridCol w="433440"/>
                <a:gridCol w="216000"/>
                <a:gridCol w="719280"/>
                <a:gridCol w="719280"/>
                <a:gridCol w="398520"/>
                <a:gridCol w="396720"/>
                <a:gridCol w="217440"/>
                <a:gridCol w="822240"/>
                <a:gridCol w="217440"/>
                <a:gridCol w="347760"/>
                <a:gridCol w="219240"/>
                <a:gridCol w="216000"/>
                <a:gridCol w="728640"/>
                <a:gridCol w="216000"/>
                <a:gridCol w="1101240"/>
              </a:tblGrid>
              <a:tr h="459720">
                <a:tc gridSpan="2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Bookman Old Style"/>
                          <a:ea typeface="Times New Roman"/>
                        </a:rPr>
                        <a:t>Бюджетная система Российской Фед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8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Федеральный бюдж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юджеты государственных внебюджетных фон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ервы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юджеты субъекто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юджеты территориальных государственных внебюджетных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торо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, </a:t>
                      </a:r>
                      <a:r>
                        <a:rPr b="1" lang="ru-RU" sz="16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, бюджеты внутригородских муниципальных образований городов федерального значения Москвы и Санкт - Петербур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рет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Четверты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Line 1588"/>
          <p:cNvSpPr/>
          <p:nvPr/>
        </p:nvSpPr>
        <p:spPr>
          <a:xfrm>
            <a:off x="328680" y="539640"/>
            <a:ext cx="918684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5BDE-0EA8-4DFB-9F14-1769004D46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8" descr=""/>
          <p:cNvPicPr/>
          <p:nvPr/>
        </p:nvPicPr>
        <p:blipFill>
          <a:blip r:embed="rId1"/>
          <a:stretch/>
        </p:blipFill>
        <p:spPr>
          <a:xfrm>
            <a:off x="351000" y="4462560"/>
            <a:ext cx="1950840" cy="18255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Основы составления проекта бюджета Родниковского городского по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404640" y="863640"/>
            <a:ext cx="920448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866880" y="3881880"/>
            <a:ext cx="818964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ставление проекта бюджета Родниковского городского пос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895320" y="1197000"/>
            <a:ext cx="1873440" cy="2519280"/>
          </a:xfrm>
          <a:prstGeom prst="downArrowCallout">
            <a:avLst>
              <a:gd name="adj1" fmla="val 25002"/>
              <a:gd name="adj2" fmla="val 25000"/>
              <a:gd name="adj3" fmla="val 22412"/>
              <a:gd name="adj4" fmla="val 66667"/>
            </a:avLst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Бюджетное послание Президента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4"/>
          <p:cNvSpPr/>
          <p:nvPr/>
        </p:nvSpPr>
        <p:spPr>
          <a:xfrm>
            <a:off x="3003480" y="1197000"/>
            <a:ext cx="1871640" cy="2519280"/>
          </a:xfrm>
          <a:prstGeom prst="downArrowCallout">
            <a:avLst>
              <a:gd name="adj1" fmla="val 25002"/>
              <a:gd name="adj2" fmla="val 25000"/>
              <a:gd name="adj3" fmla="val 22434"/>
              <a:gd name="adj4" fmla="val 66667"/>
            </a:avLst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Прогноз социально-экономического развит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15"/>
          <p:cNvSpPr/>
          <p:nvPr/>
        </p:nvSpPr>
        <p:spPr>
          <a:xfrm>
            <a:off x="7215120" y="1197000"/>
            <a:ext cx="1871640" cy="2519280"/>
          </a:xfrm>
          <a:prstGeom prst="downArrowCallout">
            <a:avLst>
              <a:gd name="adj1" fmla="val 25002"/>
              <a:gd name="adj2" fmla="val 25000"/>
              <a:gd name="adj3" fmla="val 22434"/>
              <a:gd name="adj4" fmla="val 66667"/>
            </a:avLst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Муниципальные программы Родниковского городского пос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6"/>
          <p:cNvSpPr/>
          <p:nvPr/>
        </p:nvSpPr>
        <p:spPr>
          <a:xfrm>
            <a:off x="5110200" y="1197000"/>
            <a:ext cx="1871640" cy="2519280"/>
          </a:xfrm>
          <a:prstGeom prst="downArrowCallout">
            <a:avLst>
              <a:gd name="adj1" fmla="val 25002"/>
              <a:gd name="adj2" fmla="val 25000"/>
              <a:gd name="adj3" fmla="val 22434"/>
              <a:gd name="adj4" fmla="val 66667"/>
            </a:avLst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Основные направления бюджетной и основные направления  налоговой поли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2"/>
          <a:stretch/>
        </p:blipFill>
        <p:spPr>
          <a:xfrm>
            <a:off x="2716200" y="4411800"/>
            <a:ext cx="2030400" cy="1800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"/>
          <p:cNvPicPr/>
          <p:nvPr/>
        </p:nvPicPr>
        <p:blipFill>
          <a:blip r:embed="rId3"/>
          <a:stretch/>
        </p:blipFill>
        <p:spPr>
          <a:xfrm>
            <a:off x="5054760" y="4451400"/>
            <a:ext cx="2063520" cy="1800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"/>
          <p:cNvPicPr/>
          <p:nvPr/>
        </p:nvPicPr>
        <p:blipFill>
          <a:blip r:embed="rId4"/>
          <a:stretch/>
        </p:blipFill>
        <p:spPr>
          <a:xfrm>
            <a:off x="7450200" y="4438800"/>
            <a:ext cx="20286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9D14-0869-4808-B2E8-8D87B05BA3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man Old Style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8400" y="981000"/>
            <a:ext cx="91263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Представляет собой деятельность по составлению проекта бюджета, его рассмотрению, утверждению, исполнению, составлению отчета об исполнении и его утверждени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457360" y="1700280"/>
            <a:ext cx="5072040" cy="360360"/>
          </a:xfrm>
          <a:prstGeom prst="rect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ТАДИИ БЮДЖЕТНОГО ПРОЦЕС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07960" y="2852640"/>
            <a:ext cx="1481040" cy="14400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1. Разработка проекта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2222640" y="2852640"/>
            <a:ext cx="1636560" cy="14400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2. Рассмотрение проекта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4094280" y="2852640"/>
            <a:ext cx="1639800" cy="14400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3. Утверждение проекта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5967360" y="2852640"/>
            <a:ext cx="1482840" cy="14400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4. Исполнение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7683480" y="2852640"/>
            <a:ext cx="1639800" cy="14400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5. Рассмотрение и утверждение отчета об исполнении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4952880" y="2060640"/>
            <a:ext cx="0" cy="4316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1052640" y="2492280"/>
            <a:ext cx="7489800" cy="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1052640" y="2492280"/>
            <a:ext cx="0" cy="35892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3079800" y="2492280"/>
            <a:ext cx="0" cy="35892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4952880" y="2492280"/>
            <a:ext cx="0" cy="35892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6669000" y="2492280"/>
            <a:ext cx="0" cy="35892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6"/>
          <p:cNvSpPr/>
          <p:nvPr/>
        </p:nvSpPr>
        <p:spPr>
          <a:xfrm>
            <a:off x="8542440" y="2492280"/>
            <a:ext cx="0" cy="35892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7"/>
          <p:cNvSpPr/>
          <p:nvPr/>
        </p:nvSpPr>
        <p:spPr>
          <a:xfrm>
            <a:off x="5888160" y="4724280"/>
            <a:ext cx="1639800" cy="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9"/>
          <p:cNvSpPr/>
          <p:nvPr/>
        </p:nvSpPr>
        <p:spPr>
          <a:xfrm flipV="1">
            <a:off x="5888160" y="436536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0"/>
          <p:cNvSpPr/>
          <p:nvPr/>
        </p:nvSpPr>
        <p:spPr>
          <a:xfrm flipV="1">
            <a:off x="7527960" y="436536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1"/>
          <p:cNvSpPr/>
          <p:nvPr/>
        </p:nvSpPr>
        <p:spPr>
          <a:xfrm>
            <a:off x="5734080" y="4797360"/>
            <a:ext cx="2027160" cy="287280"/>
          </a:xfrm>
          <a:prstGeom prst="rect">
            <a:avLst/>
          </a:prstGeom>
          <a:solidFill>
            <a:srgbClr val="ffccff"/>
          </a:solidFill>
          <a:ln w="158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Times New Roman"/>
              </a:rPr>
              <a:t>Бюджетный г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2"/>
          <p:cNvSpPr/>
          <p:nvPr/>
        </p:nvSpPr>
        <p:spPr>
          <a:xfrm>
            <a:off x="351000" y="5734080"/>
            <a:ext cx="9126360" cy="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3"/>
          <p:cNvSpPr/>
          <p:nvPr/>
        </p:nvSpPr>
        <p:spPr>
          <a:xfrm flipV="1">
            <a:off x="351000" y="537336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4"/>
          <p:cNvSpPr/>
          <p:nvPr/>
        </p:nvSpPr>
        <p:spPr>
          <a:xfrm flipV="1">
            <a:off x="9477360" y="537336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5"/>
          <p:cNvSpPr/>
          <p:nvPr/>
        </p:nvSpPr>
        <p:spPr>
          <a:xfrm>
            <a:off x="3236760" y="5300640"/>
            <a:ext cx="2027520" cy="287280"/>
          </a:xfrm>
          <a:prstGeom prst="rect">
            <a:avLst/>
          </a:prstGeom>
          <a:solidFill>
            <a:srgbClr val="ffccff"/>
          </a:solidFill>
          <a:ln w="158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Times New Roman"/>
              </a:rPr>
              <a:t>Бюджетный пери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6"/>
          <p:cNvSpPr/>
          <p:nvPr/>
        </p:nvSpPr>
        <p:spPr>
          <a:xfrm>
            <a:off x="351000" y="836640"/>
            <a:ext cx="920412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4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6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8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229F-0AB2-47F8-881D-6067C9C5EF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Гражданин, его участие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2070000" y="777960"/>
            <a:ext cx="5765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Помогает формировать доходную часть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2075040" y="1180080"/>
            <a:ext cx="5771880" cy="963360"/>
          </a:xfrm>
          <a:prstGeom prst="downArrowCallout">
            <a:avLst>
              <a:gd name="adj1" fmla="val 149799"/>
              <a:gd name="adj2" fmla="val 149785"/>
              <a:gd name="adj3" fmla="val 16667"/>
              <a:gd name="adj4" fmla="val 66667"/>
            </a:avLst>
          </a:prstGeom>
          <a:solidFill>
            <a:srgbClr val="ffccff"/>
          </a:solidFill>
          <a:ln w="1908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как налогоплательщ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1" descr=""/>
          <p:cNvPicPr/>
          <p:nvPr/>
        </p:nvPicPr>
        <p:blipFill>
          <a:blip r:embed="rId1"/>
          <a:stretch/>
        </p:blipFill>
        <p:spPr>
          <a:xfrm>
            <a:off x="3693960" y="2205000"/>
            <a:ext cx="2495880" cy="13636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2"/>
          <p:cNvSpPr/>
          <p:nvPr/>
        </p:nvSpPr>
        <p:spPr>
          <a:xfrm>
            <a:off x="2075040" y="3628080"/>
            <a:ext cx="5771880" cy="963360"/>
          </a:xfrm>
          <a:prstGeom prst="downArrowCallout">
            <a:avLst>
              <a:gd name="adj1" fmla="val 149799"/>
              <a:gd name="adj2" fmla="val 149785"/>
              <a:gd name="adj3" fmla="val 16667"/>
              <a:gd name="adj4" fmla="val 66667"/>
            </a:avLst>
          </a:prstGeom>
          <a:solidFill>
            <a:srgbClr val="ffccff"/>
          </a:solidFill>
          <a:ln w="1908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как получатель социальных гарант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544680" y="465264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Получает социальные гарантии – расходная часть бюджета (образование, ЖКХ, культура, физическая культура и спорт, социальные льготы и другие направления социальных гарантий населению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14" descr="j0090070"/>
          <p:cNvPicPr/>
          <p:nvPr/>
        </p:nvPicPr>
        <p:blipFill>
          <a:blip r:embed="rId2"/>
          <a:stretch/>
        </p:blipFill>
        <p:spPr>
          <a:xfrm>
            <a:off x="4533840" y="5578560"/>
            <a:ext cx="857160" cy="981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7" descr="j0301252"/>
          <p:cNvPicPr/>
          <p:nvPr/>
        </p:nvPicPr>
        <p:blipFill>
          <a:blip r:embed="rId3"/>
          <a:stretch/>
        </p:blipFill>
        <p:spPr>
          <a:xfrm>
            <a:off x="5899320" y="5610240"/>
            <a:ext cx="1249200" cy="985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8" descr="j0301480"/>
          <p:cNvPicPr/>
          <p:nvPr/>
        </p:nvPicPr>
        <p:blipFill>
          <a:blip r:embed="rId4"/>
          <a:stretch/>
        </p:blipFill>
        <p:spPr>
          <a:xfrm>
            <a:off x="2782800" y="5591160"/>
            <a:ext cx="1209600" cy="830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1" descr="j0293570"/>
          <p:cNvPicPr/>
          <p:nvPr/>
        </p:nvPicPr>
        <p:blipFill>
          <a:blip r:embed="rId5"/>
          <a:stretch/>
        </p:blipFill>
        <p:spPr>
          <a:xfrm>
            <a:off x="1322280" y="5592600"/>
            <a:ext cx="979560" cy="906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2" descr="j0285360"/>
          <p:cNvPicPr/>
          <p:nvPr/>
        </p:nvPicPr>
        <p:blipFill>
          <a:blip r:embed="rId6"/>
          <a:stretch/>
        </p:blipFill>
        <p:spPr>
          <a:xfrm>
            <a:off x="7589880" y="5557680"/>
            <a:ext cx="925560" cy="1052640"/>
          </a:xfrm>
          <a:prstGeom prst="rect">
            <a:avLst/>
          </a:prstGeom>
          <a:ln w="0">
            <a:noFill/>
          </a:ln>
        </p:spPr>
      </p:pic>
      <p:sp>
        <p:nvSpPr>
          <p:cNvPr id="247" name="Line 24"/>
          <p:cNvSpPr/>
          <p:nvPr/>
        </p:nvSpPr>
        <p:spPr>
          <a:xfrm>
            <a:off x="351000" y="692280"/>
            <a:ext cx="920412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61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8100"/>
                            </p:stCondLst>
                            <p:childTnLst>
                              <p:par>
                                <p:cTn id="3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5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5796-CBFE-4BC7-B0C5-EB58F0951B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627360" y="4365720"/>
            <a:ext cx="5850000" cy="5760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убличные обсуждения целевых програ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4"/>
          <p:cNvSpPr/>
          <p:nvPr/>
        </p:nvSpPr>
        <p:spPr>
          <a:xfrm rot="5400000">
            <a:off x="2801520" y="4332240"/>
            <a:ext cx="792000" cy="858600"/>
          </a:xfrm>
          <a:custGeom>
            <a:avLst/>
            <a:gdLst>
              <a:gd name="textAreaLeft" fmla="*/ 0 w 792000"/>
              <a:gd name="textAreaRight" fmla="*/ 792360 w 792000"/>
              <a:gd name="textAreaTop" fmla="*/ 0 h 858600"/>
              <a:gd name="textAreaBottom" fmla="*/ 858960 h 85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1676520" y="2744640"/>
            <a:ext cx="5771880" cy="6462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убличные слушания по отчету об исполнении бюджета Родниковского городского пос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3392640" y="1125360"/>
            <a:ext cx="5771880" cy="6732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убличные слушания по проекту бюджета Родниковского городского пос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13"/>
          <p:cNvSpPr/>
          <p:nvPr/>
        </p:nvSpPr>
        <p:spPr>
          <a:xfrm rot="5400000">
            <a:off x="816120" y="2736720"/>
            <a:ext cx="863280" cy="857520"/>
          </a:xfrm>
          <a:custGeom>
            <a:avLst/>
            <a:gdLst>
              <a:gd name="textAreaLeft" fmla="*/ 0 w 863280"/>
              <a:gd name="textAreaRight" fmla="*/ 863640 w 86328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4"/>
          <p:cNvSpPr/>
          <p:nvPr/>
        </p:nvSpPr>
        <p:spPr>
          <a:xfrm rot="5400000">
            <a:off x="2528640" y="1131480"/>
            <a:ext cx="870120" cy="857520"/>
          </a:xfrm>
          <a:custGeom>
            <a:avLst/>
            <a:gdLst>
              <a:gd name="textAreaLeft" fmla="*/ 0 w 870120"/>
              <a:gd name="textAreaRight" fmla="*/ 870480 w 87012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Bookman Old Style"/>
              </a:rPr>
              <a:t>Возможности влияния гражданина на состав бюдж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351000" y="692280"/>
            <a:ext cx="9204120" cy="0"/>
          </a:xfrm>
          <a:prstGeom prst="line">
            <a:avLst/>
          </a:prstGeom>
          <a:ln w="475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21" descr=""/>
          <p:cNvPicPr/>
          <p:nvPr/>
        </p:nvPicPr>
        <p:blipFill>
          <a:blip r:embed="rId1"/>
          <a:stretch/>
        </p:blipFill>
        <p:spPr>
          <a:xfrm>
            <a:off x="271440" y="4149720"/>
            <a:ext cx="2106720" cy="1495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" descr=""/>
          <p:cNvPicPr/>
          <p:nvPr/>
        </p:nvPicPr>
        <p:blipFill>
          <a:blip r:embed="rId2"/>
          <a:stretch/>
        </p:blipFill>
        <p:spPr>
          <a:xfrm>
            <a:off x="271440" y="907920"/>
            <a:ext cx="1951200" cy="1336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3" descr=""/>
          <p:cNvPicPr/>
          <p:nvPr/>
        </p:nvPicPr>
        <p:blipFill>
          <a:blip r:embed="rId3"/>
          <a:stretch/>
        </p:blipFill>
        <p:spPr>
          <a:xfrm>
            <a:off x="7839000" y="2349360"/>
            <a:ext cx="1860480" cy="1265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4" descr=""/>
          <p:cNvPicPr/>
          <p:nvPr/>
        </p:nvPicPr>
        <p:blipFill>
          <a:blip r:embed="rId4"/>
          <a:stretch/>
        </p:blipFill>
        <p:spPr>
          <a:xfrm>
            <a:off x="4952880" y="5229360"/>
            <a:ext cx="21099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0"/>
                            </p:stCondLst>
                            <p:childTnLst>
                              <p:par>
                                <p:cTn id="4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9000"/>
                            </p:stCondLst>
                            <p:childTnLst>
                              <p:par>
                                <p:cTn id="4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ObolenskayaVN</cp:lastModifiedBy>
  <dcterms:modified xsi:type="dcterms:W3CDTF">2015-12-10T07:30:12Z</dcterms:modified>
  <cp:revision>426</cp:revision>
  <dc:subject/>
  <dc:title>Бюджет для граждан на 2014 год</dc:title>
</cp:coreProperties>
</file>