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A3DA-3C60-4B48-9991-5F854DD1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1039-4360-44E8-BB58-672BA2CE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59F0-EDAE-4534-83EB-8C7602B1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2FA7-5589-4F89-AC37-220AA9A5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64E3-BF0F-463D-92C3-0398B8D0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C8AB-6B3D-4CCB-AA56-3EC0C6C8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4359-73BB-4909-B62A-486F24A3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1A27-C785-4314-B513-23E96E6B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4AA1-9353-457A-A8D5-CA59E878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D2A1-A170-40EC-8A38-8247837C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9ADB-0AC5-48BF-8D34-955F2A0A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B4FB-D2E1-48D7-9604-86FE026F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B8DF-CBFC-46BF-BCF9-32E6B1B6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D504-0BB5-4152-82A0-F5659196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FCF2-E396-48EC-B0D9-22FE46DA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0B57-C19A-4CD1-B346-DEA510F4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9D31-6EE1-4D3B-9756-2445D06F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E304-3D02-42CD-9105-028F66D7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CB0A-84CE-4B21-A91D-96088C27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3922-A69D-4C04-8A69-DD6B2108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6AD2-42C7-41D3-AF7A-45AABCE3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6564-6DE2-4F4C-BBDC-B2C115A7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A193-095B-4F8C-B2D7-03474F93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7CE2-31D3-4877-8509-926DEBA1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0F85-EE55-4B87-B319-6BD5DE699E3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1F1F-EFF5-4065-99A3-30EAEA2C64E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5640" y="2636640"/>
            <a:ext cx="7596360" cy="2376360"/>
          </a:xfrm>
          <a:prstGeom prst="rect">
            <a:avLst/>
          </a:prstGeom>
          <a:solidFill>
            <a:srgbClr val="ffffe1">
              <a:alpha val="7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БЮДЖЕТ ДЛЯ ГРАЖДАН  </a:t>
            </a:r>
            <a:br>
              <a:rPr sz="3300"/>
            </a:b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КАМИНСКОГО СЕЛЬСКОГО ПОСЕЛЕНИЯ </a:t>
            </a:r>
            <a:br>
              <a:rPr sz="3300"/>
            </a:b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РОДНИКОВСКОГО МУНИЦИПАЛЬНОГО РАЙОНА ИВАНОВСКОЙ ОБЛАСТИ</a:t>
            </a:r>
            <a:br>
              <a:rPr sz="3300"/>
            </a:b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на 2016 год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Перечень муниципальных  программ, предусмотренных к финансированию из бюджета Каминского сельского поселения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в 2016 году 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826920" y="1628640"/>
          <a:ext cx="7680600" cy="4373640"/>
        </p:xfrm>
        <a:graphic>
          <a:graphicData uri="http://schemas.openxmlformats.org/drawingml/2006/table">
            <a:tbl>
              <a:tblPr/>
              <a:tblGrid>
                <a:gridCol w="6159600"/>
                <a:gridCol w="1521000"/>
              </a:tblGrid>
              <a:tr h="611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 целевой 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438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П «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ршенствование органов местного самоуправления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9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6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П «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устройство территории  Каминского сельского поселен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П «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культуры и спорта на территории Каминского сельского поселени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0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4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П «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безопасности территории Каминского  сельского поселени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2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ЦП «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жилищно-коммунального хозяйства в Каминском сельском поселени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5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2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84000" y="836280"/>
            <a:ext cx="7940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т бюджета Каминского сельского поселения подготовлен в соответствии с требованиями Бюджетного кодекса Российской Федерации, Налогового кодекса Российской Федерации, Положением о бюджетном процессе в муниципальном образовании «Каминское сельское поселение Родниковского муниципального района Ивановской области» на основе основных показателей прогноза социально-экономического развития Каминского сельского поселения и основных направлений бюджетной политики и основных направлениях налоговой политики Каминского сельского посе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99128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«Бюджет для граждан» познакомит вас с положениями основного финансового документа Каминского сельского поселения, а именно: бюджета Каминского сельского поселения на 2016 год. Здесь в доступной и понятной форме для граждан показаны основные показатели бюджета.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Схема 1" descr=""/>
          <p:cNvPicPr/>
          <p:nvPr/>
        </p:nvPicPr>
        <p:blipFill>
          <a:blip r:embed="rId1"/>
          <a:stretch/>
        </p:blipFill>
        <p:spPr>
          <a:xfrm>
            <a:off x="542880" y="1481040"/>
            <a:ext cx="7845480" cy="37195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"/>
          <p:cNvSpPr/>
          <p:nvPr/>
        </p:nvSpPr>
        <p:spPr>
          <a:xfrm>
            <a:off x="1619280" y="5270400"/>
            <a:ext cx="590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ФИЦИ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бюджета - превышение расходов бюджета над его доход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ИЦИ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бюджета - превышение доходов бюджета над его расход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ЧТО ТАКОЕ БЮДЖЕТ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Гражданин и его участие в бюджетном процессе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3" name="Схема 8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3887640" cy="460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4800600" y="2220840"/>
          <a:ext cx="3675240" cy="2822760"/>
        </p:xfrm>
        <a:graphic>
          <a:graphicData uri="http://schemas.openxmlformats.org/drawingml/2006/table">
            <a:tbl>
              <a:tblPr/>
              <a:tblGrid>
                <a:gridCol w="3675240"/>
              </a:tblGrid>
              <a:tr h="884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бличные слушания по проекту 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бличные слушания по отчету об исполнении 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бличные слушания по обсуждению муниципальных програ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6042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Поступления формирующие доходную часть бюджета  Каминского сельского поселения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1195560" y="1773360"/>
            <a:ext cx="7389720" cy="42321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5"/>
          <p:cNvSpPr/>
          <p:nvPr/>
        </p:nvSpPr>
        <p:spPr>
          <a:xfrm>
            <a:off x="3276720" y="3429000"/>
            <a:ext cx="2519280" cy="2664000"/>
          </a:xfrm>
          <a:prstGeom prst="rect">
            <a:avLst/>
          </a:prstGeom>
          <a:solidFill>
            <a:srgbClr val="fffff8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ЕНАЛОГОВЫЕ 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тежи, которые включают в себя возмездные операции от прямого предоставления муниципалитета  в пользование имущества, от различного вида услуг, а так же платежи в виде штрафов или иных санкций за нарушение законод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2286000" y="260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характеристики  бюджет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минского сельского  поселени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201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55640" y="1700280"/>
          <a:ext cx="7848720" cy="3546360"/>
        </p:xfrm>
        <a:graphic>
          <a:graphicData uri="http://schemas.openxmlformats.org/drawingml/2006/table">
            <a:tbl>
              <a:tblPr/>
              <a:tblGrid>
                <a:gridCol w="4811760"/>
                <a:gridCol w="3036960"/>
              </a:tblGrid>
              <a:tr h="4014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бюдже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 год (тыс.ру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76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3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е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3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64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ицит (-), профицит(+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8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покрытия дефицита бюджета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 т.ч.  получение бюджетного кред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Структура доходов  </a:t>
            </a:r>
            <a:br>
              <a:rPr sz="2400"/>
            </a:b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Каминского сельского поселения</a:t>
            </a:r>
            <a:br>
              <a:rPr sz="2400"/>
            </a:b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в 2016 году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1" name="Объект 3"/>
          <p:cNvGraphicFramePr/>
          <p:nvPr/>
        </p:nvGraphicFramePr>
        <p:xfrm>
          <a:off x="289080" y="1725480"/>
          <a:ext cx="8273880" cy="480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" y="1725480"/>
                    <a:ext cx="827388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33"/>
                </a:solidFill>
                <a:latin typeface="Times New Roman"/>
              </a:rPr>
              <a:t>Структура расходов бюджета </a:t>
            </a:r>
            <a:br>
              <a:rPr sz="2200"/>
            </a:br>
            <a:r>
              <a:rPr b="1" lang="ru-RU" sz="2200" spc="-1" strike="noStrike">
                <a:solidFill>
                  <a:srgbClr val="330033"/>
                </a:solidFill>
                <a:latin typeface="Times New Roman"/>
              </a:rPr>
              <a:t>Каминского сельского  поселения </a:t>
            </a:r>
            <a:br>
              <a:rPr sz="2200"/>
            </a:br>
            <a:r>
              <a:rPr b="1" lang="ru-RU" sz="2200" spc="-1" strike="noStrike">
                <a:solidFill>
                  <a:srgbClr val="330033"/>
                </a:solidFill>
                <a:latin typeface="Times New Roman"/>
              </a:rPr>
              <a:t>на 2016 год</a:t>
            </a:r>
            <a:endParaRPr b="0" lang="en-US" sz="2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4360" y="1557360"/>
          <a:ext cx="7920000" cy="4734000"/>
        </p:xfrm>
        <a:graphic>
          <a:graphicData uri="http://schemas.openxmlformats.org/drawingml/2006/table">
            <a:tbl>
              <a:tblPr/>
              <a:tblGrid>
                <a:gridCol w="4856040"/>
                <a:gridCol w="3063960"/>
              </a:tblGrid>
              <a:tr h="377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мма,тыс.руб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48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8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6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СЛУЖИВАНИЕ МУНИЦИПАЛЬНОГО ДОЛ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  РАСХ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4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68400" y="679320"/>
            <a:ext cx="7718400" cy="7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33"/>
                </a:solidFill>
                <a:latin typeface="Times New Roman"/>
              </a:rPr>
              <a:t>Распределение расходов бюджета </a:t>
            </a:r>
            <a:br>
              <a:rPr sz="2200"/>
            </a:br>
            <a:r>
              <a:rPr b="1" lang="ru-RU" sz="2200" spc="-1" strike="noStrike">
                <a:solidFill>
                  <a:srgbClr val="330033"/>
                </a:solidFill>
                <a:latin typeface="Times New Roman"/>
              </a:rPr>
              <a:t>Каминского сельского поселения на 2016 год</a:t>
            </a:r>
            <a:endParaRPr b="0" lang="en-US" sz="2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6" name="Объект 3"/>
          <p:cNvGraphicFramePr/>
          <p:nvPr/>
        </p:nvGraphicFramePr>
        <p:xfrm>
          <a:off x="826920" y="1557360"/>
          <a:ext cx="8137800" cy="439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81378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07:02:56Z</dcterms:created>
  <dc:creator>Дима</dc:creator>
  <dc:description/>
  <dc:language>en-US</dc:language>
  <cp:lastModifiedBy>ObolenskayaVN</cp:lastModifiedBy>
  <dcterms:modified xsi:type="dcterms:W3CDTF">2015-12-10T07:29:49Z</dcterms:modified>
  <cp:revision>44</cp:revision>
  <dc:subject/>
  <dc:title>БЮДЖЕТ ДЛЯ ГРАЖДАН   НОВОМИХАЙЛОВСКОГО ГОРОДСКОГО ПОСЕЛЕНИЯ</dc:title>
</cp:coreProperties>
</file>