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FDB-FE62-421D-88F5-F842695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15E9-25A4-4EA4-BE3F-96E05533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D92-7F57-47FC-B5FC-0CEE11EE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8F8-D236-4475-8F42-2153F63C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518-6BB0-4E4E-BFEB-DBBCB6F8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13E6-6DEE-464F-9467-BA92655A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0D2-06CE-4AEE-BDCA-47F42C9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BC82-554C-4A55-930F-4EAB4D7D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1E5-C5E7-447C-8C79-B35469DC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2950-3245-4CD8-90DF-6703EC10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44D-E54A-4669-A6D8-E5940833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3F9-4D1E-46B3-9156-60DD105B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3712-B547-4189-B205-BDDDA2B068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765000"/>
            <a:ext cx="7417080" cy="4680000"/>
          </a:xfrm>
          <a:prstGeom prst="rect">
            <a:avLst/>
          </a:prstGeom>
          <a:solidFill>
            <a:srgbClr val="2b5481">
              <a:alpha val="7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БЮДЖЕТ ДЛЯ ГРАЖДАН  </a:t>
            </a:r>
            <a:br>
              <a:rPr sz="3300"/>
            </a:b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ПАРСКОГО СЕЛЬСКОГО ПОСЕЛЕНИЯ </a:t>
            </a:r>
            <a:br>
              <a:rPr sz="3300"/>
            </a:b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РОДНИКОВСКОГО МУНИЦИПАЛЬНОГО РАЙОНА ИВАНОВСКОЙ ОБЛАСТИ</a:t>
            </a:r>
            <a:br>
              <a:rPr sz="3300"/>
            </a:b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300" spc="-1" strike="noStrike">
                <a:solidFill>
                  <a:srgbClr val="ffffff"/>
                </a:solidFill>
                <a:latin typeface="Tahoma"/>
              </a:rPr>
              <a:t>на 2016 год</a:t>
            </a:r>
            <a:endParaRPr b="0" lang="en-US" sz="33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560" y="188640"/>
            <a:ext cx="8785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Перечень муниципальных  программ, предусмотренных к финансированию из бюджета Парского сельского поселения 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 2016 году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2060640"/>
          <a:ext cx="8131320" cy="4110120"/>
        </p:xfrm>
        <a:graphic>
          <a:graphicData uri="http://schemas.openxmlformats.org/drawingml/2006/table">
            <a:tbl>
              <a:tblPr/>
              <a:tblGrid>
                <a:gridCol w="6521400"/>
                <a:gridCol w="1609920"/>
              </a:tblGrid>
              <a:tr h="541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Наименование  целевой  програм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Сумма, тыс.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МП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Местное самоуправление Парского сельского поселения</a:t>
                      </a:r>
                      <a:r>
                        <a:rPr b="0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5375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МП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Благоустройство территории  Парского сельского поселения</a:t>
                      </a:r>
                      <a:r>
                        <a:rPr b="0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»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255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9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МП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Культурное пространство Парского сельского поселения</a:t>
                      </a:r>
                      <a:r>
                        <a:rPr b="0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"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756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00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МП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Безопасность территории Парского сельского поселения</a:t>
                      </a:r>
                      <a:r>
                        <a:rPr b="0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105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11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МЦП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«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Жилищно-коммунальное хозяйство Парского сельского поселения</a:t>
                      </a:r>
                      <a:r>
                        <a:rPr b="0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52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4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b5481"/>
                          </a:solidFill>
                          <a:latin typeface="Tahoma"/>
                        </a:rPr>
                        <a:t>1707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4000" y="836280"/>
            <a:ext cx="7940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ект бюджета Парского сельского поселения подготовлен в соответствии с требованиями Бюджетного кодекса Российской Федерации, Налогового кодекса Российской Федерации, Положением о бюджетном процессе в муниципальном образовании «Парское сельское поселение Родниковского муниципального района Ивановской области» на основе основных показателей прогноза социально-экономического развития Парского сельского поселения и основных направлений бюджетной политики  и основных направлений налоговой политики Парского сельского посе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9912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 Black"/>
              </a:rPr>
              <a:t>«Бюджет для граждан» познакомит вас с положениями основного финансового документа Парского сельского поселения, а именно: бюджета Парского сельского поселения на 2016 год. Здесь в доступной и понятной форме для граждан показаны основные показатели бюджета.</a:t>
            </a:r>
            <a:endParaRPr b="0" lang="en-US" sz="25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хема 1" descr=""/>
          <p:cNvPicPr/>
          <p:nvPr/>
        </p:nvPicPr>
        <p:blipFill>
          <a:blip r:embed="rId1"/>
          <a:stretch/>
        </p:blipFill>
        <p:spPr>
          <a:xfrm>
            <a:off x="542880" y="1481040"/>
            <a:ext cx="7845480" cy="37195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619280" y="5376960"/>
            <a:ext cx="59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ДЕФИЦИТ бюджета - превышение расходов бюджета над его доход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ФИЦИТ бюджета - превышение доходов бюджета над его расхода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5ffff"/>
                </a:solidFill>
                <a:latin typeface="Tahoma"/>
              </a:rPr>
              <a:t>ЧТО ТАКОЕ БЮДЖЕТ?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5ffff"/>
                </a:solidFill>
                <a:latin typeface="Tahoma"/>
              </a:rPr>
              <a:t>Гражданин и его участие в бюджетном процессе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Схема 8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3887640" cy="446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4573440" y="1989000"/>
          <a:ext cx="3889440" cy="3456000"/>
        </p:xfrm>
        <a:graphic>
          <a:graphicData uri="http://schemas.openxmlformats.org/drawingml/2006/table">
            <a:tbl>
              <a:tblPr/>
              <a:tblGrid>
                <a:gridCol w="3889440"/>
              </a:tblGrid>
              <a:tr h="108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бличные слушания по проекту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бличные слушания по отчету об исполнении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3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убличные слушания по обсуждению муниципальных програм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60428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700" spc="-1" strike="noStrike">
                <a:solidFill>
                  <a:srgbClr val="e5ffff"/>
                </a:solidFill>
                <a:latin typeface="Tahoma"/>
              </a:rPr>
              <a:t>Поступления формирующие доходную часть бюджета  Парского сельского поселения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7824960" cy="424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348000" y="3933720"/>
            <a:ext cx="2808360" cy="2448000"/>
          </a:xfrm>
          <a:prstGeom prst="rect">
            <a:avLst/>
          </a:prstGeom>
          <a:solidFill>
            <a:srgbClr val="dee1e6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НЕНАЛОГОВЫЕ ДОХ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Платежи, которые включают в себя возмездные операции от прямого предоставления муниципалитета  в пользование имущества, от различного вида услуг, а так же платежи в виде штрафов или иных санкций за нарушение законодатель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547640" y="189000"/>
            <a:ext cx="64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сновные характеристики бюджет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арского сельского  поселен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 2016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557360"/>
          <a:ext cx="7561440" cy="4494240"/>
        </p:xfrm>
        <a:graphic>
          <a:graphicData uri="http://schemas.openxmlformats.org/drawingml/2006/table">
            <a:tbl>
              <a:tblPr/>
              <a:tblGrid>
                <a:gridCol w="6091200"/>
                <a:gridCol w="1470240"/>
              </a:tblGrid>
              <a:tr h="40176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Проект бюдже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6699"/>
                          </a:solidFill>
                          <a:latin typeface="Times New Roman"/>
                          <a:ea typeface="Times New Roman"/>
                        </a:rPr>
                        <a:t>2016 год (тыс.руб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283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72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83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51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78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3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13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62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095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286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- получ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8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 погаше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5ffff"/>
                </a:solidFill>
                <a:latin typeface="Tahoma"/>
              </a:rPr>
              <a:t>Структура доходов  </a:t>
            </a:r>
            <a:br>
              <a:rPr sz="2700"/>
            </a:br>
            <a:r>
              <a:rPr b="1" lang="ru-RU" sz="2700" spc="-1" strike="noStrike">
                <a:solidFill>
                  <a:srgbClr val="e5ffff"/>
                </a:solidFill>
                <a:latin typeface="Tahoma"/>
              </a:rPr>
              <a:t>Парского  сельского поселения</a:t>
            </a:r>
            <a:br>
              <a:rPr sz="2700"/>
            </a:br>
            <a:r>
              <a:rPr b="1" lang="ru-RU" sz="2700" spc="-1" strike="noStrike">
                <a:solidFill>
                  <a:srgbClr val="e5ffff"/>
                </a:solidFill>
                <a:latin typeface="Tahoma"/>
              </a:rPr>
              <a:t>в 2016 году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5" name="Объект 3"/>
          <p:cNvGraphicFramePr/>
          <p:nvPr/>
        </p:nvGraphicFramePr>
        <p:xfrm>
          <a:off x="257040" y="1701720"/>
          <a:ext cx="8290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1701720"/>
                    <a:ext cx="8290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e5ffff"/>
                </a:solidFill>
                <a:latin typeface="Tahoma"/>
              </a:rPr>
              <a:t>Структура расходов бюджета </a:t>
            </a:r>
            <a:br>
              <a:rPr sz="2500"/>
            </a:br>
            <a:r>
              <a:rPr b="1" lang="ru-RU" sz="2500" spc="-1" strike="noStrike">
                <a:solidFill>
                  <a:srgbClr val="e5ffff"/>
                </a:solidFill>
                <a:latin typeface="Tahoma"/>
              </a:rPr>
              <a:t>Парского сельского  поселения </a:t>
            </a:r>
            <a:br>
              <a:rPr sz="2500"/>
            </a:br>
            <a:r>
              <a:rPr b="1" lang="ru-RU" sz="2500" spc="-1" strike="noStrike">
                <a:solidFill>
                  <a:srgbClr val="e5ffff"/>
                </a:solidFill>
                <a:latin typeface="Tahoma"/>
              </a:rPr>
              <a:t>на 2016 год</a:t>
            </a:r>
            <a:endParaRPr b="0" lang="en-US" sz="25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844640"/>
          <a:ext cx="8209080" cy="4363920"/>
        </p:xfrm>
        <a:graphic>
          <a:graphicData uri="http://schemas.openxmlformats.org/drawingml/2006/table">
            <a:tbl>
              <a:tblPr/>
              <a:tblGrid>
                <a:gridCol w="5033880"/>
                <a:gridCol w="3175200"/>
              </a:tblGrid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показател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умма,тыс.руб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46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ЦИОНАЛЬНАЯ ЭКОНОМ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71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05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УЛЬТУРА, КИНЕМАТОГРАФ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5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5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ФИЗИЧЕСКАЯ КУЛЬТУРА И СПОР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СЛУЖИВАНИЕ  МУНИЦИПАЛЬНОГО ДОЛ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СЕГО  РАСХОД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35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080" y="333000"/>
            <a:ext cx="817236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e5ffff"/>
                </a:solidFill>
                <a:latin typeface="Tahoma"/>
              </a:rPr>
              <a:t>Распределение расходов бюджета </a:t>
            </a:r>
            <a:br>
              <a:rPr sz="2500"/>
            </a:br>
            <a:r>
              <a:rPr b="1" lang="ru-RU" sz="2500" spc="-1" strike="noStrike">
                <a:solidFill>
                  <a:srgbClr val="e5ffff"/>
                </a:solidFill>
                <a:latin typeface="Tahoma"/>
              </a:rPr>
              <a:t>Парского  сельского поселения на 2016 год</a:t>
            </a:r>
            <a:endParaRPr b="0" lang="en-US" sz="25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Объект 3"/>
          <p:cNvGraphicFramePr/>
          <p:nvPr/>
        </p:nvGraphicFramePr>
        <p:xfrm>
          <a:off x="398520" y="1557360"/>
          <a:ext cx="8407440" cy="49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520" y="1557360"/>
                    <a:ext cx="840744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3T07:02:56Z</dcterms:created>
  <dc:creator>Дима</dc:creator>
  <dc:description/>
  <dc:language>en-US</dc:language>
  <cp:lastModifiedBy>ObolenskayaVN</cp:lastModifiedBy>
  <dcterms:modified xsi:type="dcterms:W3CDTF">2015-12-10T06:45:59Z</dcterms:modified>
  <cp:revision>45</cp:revision>
  <dc:subject/>
  <dc:title>БЮДЖЕТ ДЛЯ ГРАЖДАН   НОВОМИХАЙЛОВСКОГО ГОРОДСКОГО ПОСЕЛЕНИЯ</dc:title>
</cp:coreProperties>
</file>