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D05D-D116-497A-9B91-7C852D319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E2A-D486-46A5-83E4-3048FDC2B9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025-43EA-4532-B045-A6E6FB2AC8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CD82-0035-43BA-AFD7-C327A2E308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247-69D4-4C47-88B6-6F2D08C7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59B-60D5-4A2B-A82F-5B53AB8C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AF8-427B-479D-8399-3B0A2265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380-5C47-47D6-8A5B-38483804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A877-D92A-4918-AB6A-036801DF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28A9-9759-4367-9DB7-2C17AD01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E8F-3DC3-4B26-B9E5-736AFBF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CDE0-4412-477D-9F33-46A4B00B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D47-E0F5-4CA3-8ECC-9F06E68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15AF-625C-4485-BE4C-2DB6AC81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C20E-A99A-4ACD-9F1A-A7C8F28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DBF-A20B-4015-B576-7E5311A3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26B-B967-455D-8CBD-8B015D9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DFB7-7987-4669-826B-07886BE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E0DB-BBCB-41EA-A487-DEBA579F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4AEA-46BB-4B91-89AC-485F0B67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4A99-1853-420C-A967-1410175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F8D-6F2B-4D54-8670-D57D6A4D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9B3-E206-4FCC-A82F-0F7A19C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679-B378-4484-9DD0-B5734E49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B5A-815C-4BAC-BA4D-18BE8A5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82D-A252-428A-ACA8-9C43FE0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BDA-A07D-4808-A473-FF90FF6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D22-1E31-4D84-B397-F4AD045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DFC9-9DAF-4C89-8903-3D7B0EAC4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6F5F-B750-468D-B622-50C241882B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чные слушания по проекту решения Совета муниципального образования «Родниковское городское поселение Родниковского муниципального района Ивановской области»</a:t>
            </a:r>
            <a:br>
              <a:rPr sz="6000"/>
            </a:br>
            <a:br>
              <a:rPr sz="60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б утверждении отчета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 исполнении бюджета Родниковского городского поселения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2021 год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 основных характеристик бюдже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дниковского городского поселе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2021 год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905120"/>
          <a:ext cx="8381880" cy="3127320"/>
        </p:xfrm>
        <a:graphic>
          <a:graphicData uri="http://schemas.openxmlformats.org/drawingml/2006/table">
            <a:tbl>
              <a:tblPr/>
              <a:tblGrid>
                <a:gridCol w="4724280"/>
                <a:gridCol w="36576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( млн. рубл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457200" y="1143000"/>
          <a:ext cx="8381880" cy="4119480"/>
        </p:xfrm>
        <a:graphic>
          <a:graphicData uri="http://schemas.openxmlformats.org/drawingml/2006/table">
            <a:tbl>
              <a:tblPr/>
              <a:tblGrid>
                <a:gridCol w="6067440"/>
                <a:gridCol w="231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(млн.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си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в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чие межбюджетные трансфе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бюджетов городских поселений от возврата остатков субсидий, субвенций и иных межбюджетных трансфертов, имеющих целевое назна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Прямоугольник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нение доходов бюджета Родниковского городского поселения за 2021 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уктура доходов бюджета Родниковского городского поселения  за 2021 год  </a:t>
            </a:r>
            <a:br>
              <a:rPr sz="28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млн. руб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Диаграмма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96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Структура налоговых доход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 бюджета Родниковского городского посел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                                за 2021 год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바탕"/>
                <a:ea typeface="바탕"/>
              </a:rPr>
              <a:t>(млн.руб.)       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Таблица 3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еналоговых доходов бюджета Родниковского городского поселения за 2021 год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Таблица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49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уктура расходов бюджета Родниковского городского поселения по разделам классификации расходов бюджетов за 2021 год               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(млн.руб.)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Содержимое 3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Исполнение бюджет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Родниковского городского поселения за 2021 год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 муниципальным програм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677960"/>
          <a:ext cx="8382240" cy="4572000"/>
        </p:xfrm>
        <a:graphic>
          <a:graphicData uri="http://schemas.openxmlformats.org/drawingml/2006/table">
            <a:tbl>
              <a:tblPr/>
              <a:tblGrid>
                <a:gridCol w="6185160"/>
                <a:gridCol w="219708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Благоустройство территории Родниковского городского поселения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рофилактика правонарушений и обеспечение безопасности граждан на территории Родниковского городского поселения Родниковского муниципального района Ивановской област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оциальная забота и поддержка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Культурное пространство города Родник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Развитие жилищно-коммунального хозяйства в Родниковском городском поселени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Формирование современной городской среды на территории муниципального образования "Родниковское городское поселение Родниковского муниципального района Ивановской област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3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чные слушания по проекту решения Совета муниципального образования «Родниковское городское поселение Родниковского муниципального района Ивановской области»</a:t>
            </a:r>
            <a:br>
              <a:rPr sz="60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б утверждении отчета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 исполнении бюджета Родниковского городского поселения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2021 год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 Балакирева_</dc:creator>
  <dc:description/>
  <dc:language>en-US</dc:language>
  <cp:lastModifiedBy>obolenskayavn</cp:lastModifiedBy>
  <dcterms:modified xsi:type="dcterms:W3CDTF">2022-04-26T11:42:39Z</dcterms:modified>
  <cp:revision>4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