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8BF-F238-48C9-AEE0-8E22C3E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802-6670-4958-8437-886AF99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DB9-411A-478B-822C-D8F32A96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913-2CA7-48F0-BD3B-85AB532B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E403-AA17-44D2-9440-4F0C830D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06F9-5E97-477B-8381-DBFE7279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0693-ADA5-49DD-A209-E19A747B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EAA-76EF-4E4A-8308-A44A253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B4FD-8E3B-43C8-A929-8F6D849A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78F-D30D-467F-8E56-B6ADFC3B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6454-22BF-4C74-9B22-23C0563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7C4-9EBD-4366-8540-5200A4C5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1724-ED38-4256-8191-97032A8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CD5-E7F0-4304-9199-182C7D2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590F-4100-46BC-BC7B-E08659D6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E91-298F-4551-83F0-2ED4A9FB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10DC-77EA-412E-AD04-B5462238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40F3-2CB6-4473-9C8F-22CFEAF6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3335-29FF-45A7-9299-6E79431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DBEE-99E0-4DC9-855B-053B8F2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3F1D-CE7D-44CD-9822-3507F2CA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0624-23E2-4517-8739-4B880FB7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AC2-1723-4F75-B13E-E89DAB94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0984-8B28-4E97-997C-BA339764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ABA0-4DAF-4F71-9EE1-D74165D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27E9-304D-4BCD-B004-5E3F770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252E-7B16-4239-8655-C18DD3D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92F3-AC18-4C5E-A118-A4D6ABEB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C54B-E129-4C75-8F01-90AFF019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AC2E-1830-4E31-B79A-A2D44481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B6E0-3614-441B-A3D9-6DC0151F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D9D3-AD80-476A-872C-1975CBF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2A77-B63E-4B7D-A119-2E7C60D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335-C4A5-4820-ACDC-F841BA0C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1D37-668C-4E9D-A499-19C53F7C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75F6-0276-433E-9C9C-2EA229F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E75B-19D5-4099-B54F-38375291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C105-3D21-430A-9440-6641FB8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EED2-F931-4B09-A1B5-94E0962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E654-B926-4F0E-93C5-704AD90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1354-27B1-48E7-A797-7B475533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E6BD-5FB7-465C-8237-0C711486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0D75-4BC0-460A-8EF7-44CE4349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8A8-022F-49D1-B4EC-F975AC9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D8C-D341-4DD0-938B-C1B27BE3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FAC-59CD-422F-9E1C-238B5A3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E48-AE24-4C56-A8C7-FF33503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294-3111-4881-8A17-EB952D1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000-C420-475B-982D-9D4396B11BD8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2303-D596-4016-BEB5-D1BD50470E59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AE9-B3BD-4DFA-9730-632131F7BE8D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C27-063B-4358-96F0-97FABCA0B286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499760"/>
            <a:ext cx="8208720" cy="3143160"/>
          </a:xfrm>
          <a:prstGeom prst="rect">
            <a:avLst/>
          </a:prstGeom>
          <a:solidFill>
            <a:srgbClr val="ffc7dd">
              <a:alpha val="74000"/>
            </a:srgbClr>
          </a:solidFill>
          <a:ln w="9360">
            <a:solidFill>
              <a:srgbClr val="e40059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776"/>
                </a:solidFill>
                <a:latin typeface="Constantia"/>
              </a:rPr>
              <a:t>«БЮДЖЕТ ДЛЯ ГРАЖДАН» </a:t>
            </a:r>
            <a:br>
              <a:rPr sz="3300"/>
            </a:br>
            <a:r>
              <a:rPr b="1" i="1" lang="ru-RU" sz="3300" spc="-1" strike="noStrike">
                <a:solidFill>
                  <a:srgbClr val="002776"/>
                </a:solidFill>
                <a:latin typeface="Constantia"/>
              </a:rPr>
              <a:t>по проекту бюджета </a:t>
            </a:r>
            <a:br>
              <a:rPr sz="3300"/>
            </a:br>
            <a:r>
              <a:rPr b="1" i="1" lang="ru-RU" sz="3300" spc="-1" strike="noStrike">
                <a:solidFill>
                  <a:srgbClr val="002776"/>
                </a:solidFill>
                <a:latin typeface="Constantia"/>
              </a:rPr>
              <a:t>КАМИНСКОГО СЕЛЬСКОГО ПОСЕЛЕНИЯ </a:t>
            </a:r>
            <a:br>
              <a:rPr sz="3300"/>
            </a:br>
            <a:r>
              <a:rPr b="1" i="1" lang="ru-RU" sz="3300" spc="-1" strike="noStrike">
                <a:solidFill>
                  <a:srgbClr val="002776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002776"/>
                </a:solidFill>
                <a:latin typeface="Constantia"/>
              </a:rPr>
              <a:t>  </a:t>
            </a:r>
            <a:r>
              <a:rPr b="1" i="1" lang="ru-RU" sz="3000" spc="-1" strike="noStrike">
                <a:solidFill>
                  <a:srgbClr val="002776"/>
                </a:solidFill>
                <a:latin typeface="Constantia"/>
              </a:rPr>
              <a:t>на 2020 год и на плановый период 2021 и 2022 годов</a:t>
            </a:r>
            <a:endParaRPr b="0" lang="en-US" sz="30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427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чень муниципальных  программ, предусмотренных к финансированию из бюджета Каминского сельского посел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20 году и плановом периоде 2021 и 2022 годов.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95280" y="1989000"/>
          <a:ext cx="8353440" cy="3841920"/>
        </p:xfrm>
        <a:graphic>
          <a:graphicData uri="http://schemas.openxmlformats.org/drawingml/2006/table">
            <a:tbl>
              <a:tblPr/>
              <a:tblGrid>
                <a:gridCol w="4765680"/>
                <a:gridCol w="1195560"/>
                <a:gridCol w="1195200"/>
                <a:gridCol w="1197000"/>
              </a:tblGrid>
              <a:tr h="53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 целевой 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51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51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519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519ff"/>
                    </a:solidFill>
                  </a:tcPr>
                </a:tc>
              </a:tr>
              <a:tr h="573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ниципальная программа Каминского сельского поселения "Совершенствование органов местного самоуправления Каминского сельского посе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97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88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94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0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ниципальная программа Каминского сельского поселения "Благоустройство территории Каминского сельского посе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96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96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96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ниципальная программа Каминского сельского поселения "Развитие культуры и спорта на территории Каминского сельского посе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3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94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94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ниципальная программа Каминского сельского поселения "Обеспечение безопасности территории Каминского сельского посе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7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7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граммн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28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5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2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136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711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15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7429680" y="1500120"/>
            <a:ext cx="9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14240" y="1000080"/>
            <a:ext cx="7940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ект бюджета Каминского сельского поселения подготовлен в соответствии с требованиями Бюджетного кодекса Российской Федерации, Налогового кодекса Российской Федерации, Положением о бюджетном процессе в муниципальном образовании «Каминское сельское поселение Родниковского муниципального района Ивановской области» на основе основных показателей прогноза социально-экономического развития Каминского сельского поселения и основных направлений бюджетной и налоговой политики Каминского сельского посел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010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«Бюджет для граждан» познакомит вас с положениями основного финансового документа Каминского сельского поселения, а именно: бюджета Каминского сельского поселения на 2020 год и на плановый период 2021 и 2022 годов. Здесь в доступной и понятной форме для граждан показаны основные показатели бюджета.</a:t>
            </a:r>
            <a:endParaRPr b="0" lang="en-US" sz="26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хема 1" descr=""/>
          <p:cNvPicPr/>
          <p:nvPr/>
        </p:nvPicPr>
        <p:blipFill>
          <a:blip r:embed="rId1"/>
          <a:stretch/>
        </p:blipFill>
        <p:spPr>
          <a:xfrm>
            <a:off x="542880" y="1504800"/>
            <a:ext cx="7845480" cy="38102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1619280" y="5270400"/>
            <a:ext cx="59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превышение расходов бюджета над его дох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превышение доходов бюджета над его расх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alibri"/>
              </a:rPr>
              <a:t>ЧТО ТАКОЕ БЮДЖЕТ?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alibri"/>
              </a:rPr>
              <a:t>Гражданин и его участие в бюджетном процессе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800600" y="2220840"/>
          <a:ext cx="3675240" cy="28227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88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проекту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отчету об исполнении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ые слушания по обсуждению муниципальных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Схема 8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1279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200" spc="-1" strike="noStrike">
                <a:solidFill>
                  <a:srgbClr val="002776"/>
                </a:solidFill>
                <a:latin typeface="Calibri"/>
              </a:rPr>
              <a:t>Поступления формирующие доходную часть бюджета  Каминского сельского поселения</a:t>
            </a:r>
            <a:endParaRPr b="0" lang="en-US" sz="2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389720" cy="42321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3276720" y="3429000"/>
            <a:ext cx="2519280" cy="2664000"/>
          </a:xfrm>
          <a:prstGeom prst="rect">
            <a:avLst/>
          </a:prstGeom>
          <a:solidFill>
            <a:srgbClr val="ff71e5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НАЛОГОВЫЕ 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латежи, которые включают в себя возмездные операции от прямого предоставления муниципалитета  в пользование имущества, от различного вида услуг, а так же платежи в виде штрафов или иных санкций за нарушение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1357200" y="28584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 бюджет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инского сельского  посел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2020 год и на плановый период 2021 и 2022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55640" y="1700280"/>
          <a:ext cx="7848720" cy="4130640"/>
        </p:xfrm>
        <a:graphic>
          <a:graphicData uri="http://schemas.openxmlformats.org/drawingml/2006/table">
            <a:tbl>
              <a:tblPr/>
              <a:tblGrid>
                <a:gridCol w="3530520"/>
                <a:gridCol w="1571760"/>
                <a:gridCol w="1428840"/>
                <a:gridCol w="1317600"/>
              </a:tblGrid>
              <a:tr h="514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-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4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7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4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4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- всег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3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4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7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(-), профицит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покрытия дефицита бюджета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т.ч.  остатки средств на счете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7572240" y="135720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тыс.ру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840" y="189000"/>
            <a:ext cx="80773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уктура доходов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аминского сельского поселен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2020 году</a:t>
            </a:r>
            <a:endParaRPr b="0" lang="en-US" sz="2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250920" y="1782720"/>
            <a:ext cx="8059680" cy="464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41528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аминского сельского  поселения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2020 год и на плановый период 2021 и 2022 годов</a:t>
            </a:r>
            <a:endParaRPr b="0" lang="en-US" sz="22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5880" y="1641600"/>
          <a:ext cx="7643880" cy="4502160"/>
        </p:xfrm>
        <a:graphic>
          <a:graphicData uri="http://schemas.openxmlformats.org/drawingml/2006/table">
            <a:tbl>
              <a:tblPr/>
              <a:tblGrid>
                <a:gridCol w="3786120"/>
                <a:gridCol w="1285920"/>
                <a:gridCol w="1285920"/>
                <a:gridCol w="1285920"/>
              </a:tblGrid>
              <a:tr h="35064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242 75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656 1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361 17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00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 5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 5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61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3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351 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351 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351 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580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54 63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152 06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152 06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3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0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0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0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580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704 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8 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8 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3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6160"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136 2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 711 0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 215 53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679320"/>
            <a:ext cx="8532720" cy="74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еделение расходов бюджета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аминского сельского поселения на 2020 год</a:t>
            </a:r>
            <a:endParaRPr b="0" lang="en-US" sz="2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81756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7:02:56Z</dcterms:created>
  <dc:creator>Дима</dc:creator>
  <dc:description/>
  <dc:language>en-US</dc:language>
  <cp:lastModifiedBy>subbotinaos</cp:lastModifiedBy>
  <dcterms:modified xsi:type="dcterms:W3CDTF">2019-11-15T08:02:38Z</dcterms:modified>
  <cp:revision>80</cp:revision>
  <dc:subject/>
  <dc:title>БЮДЖЕТ ДЛЯ ГРАЖДАН   НОВОМИХАЙЛОВСКОГО ГОРОДСКОГО ПОСЕЛЕНИЯ</dc:title>
</cp:coreProperties>
</file>