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E02-8858-4EF6-8730-381CB52E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84F-C20A-431A-AF2E-6155D044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F1B-8892-488C-853D-D1E4B70D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AE4-4170-4288-8632-659376C4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AB36-1844-4F11-8AA2-20EDC03D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E122-9B50-4103-B211-3890014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6079-70DD-47E6-A23B-7824B9CC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B55C-F7E2-4657-A011-07105102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18A5-F756-4911-AEA5-66CDB477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02F8-969F-44D0-ACB8-02EEB523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2F35-0E77-49CC-ABE0-DCC3B9FF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F64-B7AE-4A7D-91B0-4D915E0F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3537-E607-4B81-B860-7BDAD4C1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25D8-3C81-4D40-ACF6-A240E3B8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C137-6B97-4E53-9798-BCA55A87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8CAB-D69B-4D1C-BBFA-8C5F4D6A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26EF-0D78-44AE-A589-3E488D34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DE4-6C4D-4651-BF37-DD4021AC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B5D-E2C8-4569-B9A1-CAEAE8F1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82D-A917-438B-B859-2693C7EC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ABE-3D18-4DF5-AEC5-2F03C32D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2D8-68C0-411D-B6B1-F62B7FB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46A-FB3D-4B62-BE86-1CCE9182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4CE-B0F7-4472-A921-31BACD0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7C09-E12F-4AD1-AE64-D412FB87DD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A996-0CFD-46B6-A58F-983F878F9F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Бюджет для граждан </a:t>
            </a:r>
            <a:br>
              <a:rPr sz="5400"/>
            </a:b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на решение </a:t>
            </a:r>
            <a:br>
              <a:rPr sz="5400"/>
            </a:br>
            <a:r>
              <a:rPr b="0" i="1" lang="ru-RU" sz="5400" spc="-1" strike="noStrike">
                <a:solidFill>
                  <a:srgbClr val="ffffff"/>
                </a:solidFill>
                <a:latin typeface="Arial"/>
              </a:rPr>
              <a:t>«Об исполнении районного бюджета за 2013 год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униципальное образование «Родниковский муниципальный райо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8256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380880"/>
          <a:ext cx="8991720" cy="586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899172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тоги исполнения районного бюджета за 2013 год по налоговым и неналоговым доходам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1447920"/>
          <a:ext cx="8381880" cy="5221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800360"/>
                <a:gridCol w="1552320"/>
              </a:tblGrid>
              <a:tr h="639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верждено на 2013 год, млн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нено за 2013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п роста к 2012 году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н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 к бюджетным назнач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оговые доход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полнение районного бюджета за 2013 год по налоговым и неналоговым доходам в разрезе источников (тыс. руб.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3520" y="914400"/>
          <a:ext cx="8381880" cy="5343480"/>
        </p:xfrm>
        <a:graphic>
          <a:graphicData uri="http://schemas.openxmlformats.org/drawingml/2006/table">
            <a:tbl>
              <a:tblPr/>
              <a:tblGrid>
                <a:gridCol w="3429000"/>
                <a:gridCol w="1600200"/>
                <a:gridCol w="1752480"/>
                <a:gridCol w="16002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испол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 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 96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30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39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776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и на имущ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18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38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олженность и перерасчеты по отмененным налог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использования имуще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09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09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тежи при пользовании природными ресурс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оказания платных услуг (рабо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74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02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457200" y="533520"/>
          <a:ext cx="8305920" cy="4887720"/>
        </p:xfrm>
        <a:graphic>
          <a:graphicData uri="http://schemas.openxmlformats.org/drawingml/2006/table">
            <a:tbl>
              <a:tblPr/>
              <a:tblGrid>
                <a:gridCol w="3367080"/>
                <a:gridCol w="1569960"/>
                <a:gridCol w="1720800"/>
                <a:gridCol w="1648080"/>
              </a:tblGrid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испол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.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трафы, санкции, возмещение ущерб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2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80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 09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612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налоговых и неналоговых доходов  в расчете на 1  жителя 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204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532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бственные доходы районного бюджета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2013 год – 93,6 млн.руб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1295280"/>
          <a:ext cx="9144000" cy="532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Исполнен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районного бюдже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о расход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полнение районного бюджета за 2013 год по расходам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тыс. руб.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1447920"/>
          <a:ext cx="8839440" cy="4829040"/>
        </p:xfrm>
        <a:graphic>
          <a:graphicData uri="http://schemas.openxmlformats.org/drawingml/2006/table">
            <a:tbl>
              <a:tblPr/>
              <a:tblGrid>
                <a:gridCol w="3353040"/>
                <a:gridCol w="1676160"/>
                <a:gridCol w="1905120"/>
                <a:gridCol w="190512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 05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 82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циональная безопасность и правоохранитель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 59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 10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лищно-коммунальное хозяй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 657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 38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3 09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9 01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 и кинематограф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 52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 51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 97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032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57200" y="838080"/>
          <a:ext cx="8229600" cy="4651560"/>
        </p:xfrm>
        <a:graphic>
          <a:graphicData uri="http://schemas.openxmlformats.org/drawingml/2006/table">
            <a:tbl>
              <a:tblPr/>
              <a:tblGrid>
                <a:gridCol w="3048120"/>
                <a:gridCol w="1635120"/>
                <a:gridCol w="1773000"/>
                <a:gridCol w="177336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ая культура и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 26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 114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ства масс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15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152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уживание муниципального дол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РАС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 47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0 30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расходов районного бюджета в расчете на одного жителя (тыс. 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03400" y="378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280" y="457200"/>
          <a:ext cx="89917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8991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0880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Расходы районного бюджета в расчете </a:t>
            </a:r>
            <a:br>
              <a:rPr sz="2300"/>
            </a:b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на 1 жителя</a:t>
            </a:r>
            <a:endParaRPr b="0" lang="en-US" sz="2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92360" y="1052280"/>
            <a:ext cx="312408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84360" y="1219320"/>
          <a:ext cx="7697520" cy="4705200"/>
        </p:xfrm>
        <a:graphic>
          <a:graphicData uri="http://schemas.openxmlformats.org/drawingml/2006/table">
            <a:tbl>
              <a:tblPr/>
              <a:tblGrid>
                <a:gridCol w="5283000"/>
                <a:gridCol w="2414520"/>
              </a:tblGrid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3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расходов на жилищно-коммунальное хозяй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расходов на обра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расходов на культуру и кинематограф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расходов на социальную полити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расходов на физическую культуру и спор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расходов на содержание органов местного само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08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 flipH="1">
            <a:off x="7308000" y="692280"/>
            <a:ext cx="14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( тыс. руб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Arial"/>
              </a:rPr>
              <a:t>Родниковский муниципальный район</a:t>
            </a:r>
            <a:endParaRPr b="0" lang="en-US" sz="3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934320" y="838080"/>
            <a:ext cx="1409760" cy="1621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887640" y="2492280"/>
            <a:ext cx="52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Численность населения  на 01.01.2014г. - 34 435ч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6200" y="246384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Территория 935 кв. к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6165720"/>
            <a:ext cx="23781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1 городское посел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3 сельских поселения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6000" y="6165720"/>
            <a:ext cx="314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Городское население – 73,7%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Сельское население – 26,3%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484360" y="2852640"/>
            <a:ext cx="4248360" cy="3354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116000" y="981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77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нение районного бюджета в рамках долгосрочных целевых программ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за 2013 год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57200" y="1600200"/>
          <a:ext cx="8534520" cy="4808520"/>
        </p:xfrm>
        <a:graphic>
          <a:graphicData uri="http://schemas.openxmlformats.org/drawingml/2006/table">
            <a:tbl>
              <a:tblPr/>
              <a:tblGrid>
                <a:gridCol w="3886200"/>
                <a:gridCol w="1644480"/>
                <a:gridCol w="1555920"/>
                <a:gridCol w="14479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 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триотическое воспитание детей и молоде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физической культуры и спор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 10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 95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  отдыха, оздоровления и занятости детей и подрост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4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44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д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еспечение жильем молодых сем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 721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83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ддержка   граждан в сфере ипотечного кредит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457200" y="609480"/>
          <a:ext cx="8458200" cy="5708880"/>
        </p:xfrm>
        <a:graphic>
          <a:graphicData uri="http://schemas.openxmlformats.org/drawingml/2006/table">
            <a:tbl>
              <a:tblPr/>
              <a:tblGrid>
                <a:gridCol w="4038480"/>
                <a:gridCol w="1371600"/>
                <a:gridCol w="1524240"/>
                <a:gridCol w="1523880"/>
              </a:tblGrid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 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хранение, укрепление и развитие материально-технической базы учреждений социальной сф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00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00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и Родниковского рай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еспечение пожарной безопасности учреждений социальной сф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36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36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ое развитие се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55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344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рнизация объектов коммунальной инфраструк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60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60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хранение и укрепление материально-технической базы и повышения квалификации кадров органов местного само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71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70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228600" y="106200"/>
          <a:ext cx="8686800" cy="6675480"/>
        </p:xfrm>
        <a:graphic>
          <a:graphicData uri="http://schemas.openxmlformats.org/drawingml/2006/table">
            <a:tbl>
              <a:tblPr/>
              <a:tblGrid>
                <a:gridCol w="4038480"/>
                <a:gridCol w="1600200"/>
                <a:gridCol w="1524240"/>
                <a:gridCol w="15238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 (тыс. 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сети автомобильных дорог общего пользования, расположенных вне границ населенных пунктов в границах муниципального рай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63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0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тупная среда для детей - инвалидов в общеобразовательных учрежден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90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90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нергосбережение и повышение энергетической эффект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держка и развития малого и среднего предприниматель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9 44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0 03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ритетные направления развития системы образова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 07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 07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ти Ивановской обла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Ивановской обла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 расходы по программ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3 576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4 73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Расходы на реализацию долгосрочных целевых программ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за 2013 год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57200" y="2752560"/>
          <a:ext cx="4038480" cy="22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28600" y="1195560"/>
          <a:ext cx="8686800" cy="53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195560"/>
                    <a:ext cx="8686800" cy="53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74840"/>
            <a:ext cx="864864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солидированный бюджет района за 2013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28600" y="1828800"/>
          <a:ext cx="8458200" cy="4313160"/>
        </p:xfrm>
        <a:graphic>
          <a:graphicData uri="http://schemas.openxmlformats.org/drawingml/2006/table">
            <a:tbl>
              <a:tblPr/>
              <a:tblGrid>
                <a:gridCol w="2590920"/>
                <a:gridCol w="1638360"/>
                <a:gridCol w="2114280"/>
                <a:gridCol w="2114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 на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 исполн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092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5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безвозмездные перечис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8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144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фицит (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2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5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бюджетного проц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ение проекта районного бюджета на   очередной финансовый год и плановый перио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мотрение и утверждение районного  бюдж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нение районного бюдж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ение, рассмотрение и утверждение отчета об исполнении районного бюдж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троль за исполнением районного бюдж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полнение бюдже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ним из этапов бюджетного процесса являетс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полнение бюдж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нансовый год начинается 1 января и завершается 31 декабря – соответствует календарному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нением бюджета яв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ение комплекса мероприятий по обеспечению поступлений в бюдж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олнение расходных обязательств муниципального образ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нансирование дефицита бюдж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роцессе исполнения бюджета участву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рганы исполнительной вла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нансовые и налоговые орга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едитные учрежд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юридические и физические лица – плательщики налогов в бюджет, получатели бюджетных средст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азанные ниже документы являются основанием для исполнения бюдж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152280" y="228600"/>
            <a:ext cx="838440" cy="64771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6477120"/>
              <a:gd name="textAreaBottom" fmla="*/ 6436440 h 6477120"/>
            </a:gdLst>
            <a:ahLst/>
            <a:rect l="textAreaLeft" t="textAreaTop" r="textAreaRight" b="textAreaBottom"/>
            <a:pathLst>
              <a:path w="21600" h="166802">
                <a:moveTo>
                  <a:pt x="3600" y="0"/>
                </a:moveTo>
                <a:arcTo wR="3600" hR="3600" stAng="16200000" swAng="-5400000"/>
                <a:lnTo>
                  <a:pt x="0" y="163202"/>
                </a:lnTo>
                <a:arcTo wR="3600" hR="3600" stAng="10800000" swAng="-5400000"/>
                <a:lnTo>
                  <a:pt x="18000" y="1668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янва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2"/>
          <p:cNvSpPr/>
          <p:nvPr/>
        </p:nvSpPr>
        <p:spPr>
          <a:xfrm>
            <a:off x="8229600" y="304920"/>
            <a:ext cx="914400" cy="632448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6324480"/>
              <a:gd name="textAreaBottom" fmla="*/ 6279840 h 6324480"/>
            </a:gdLst>
            <a:ahLst/>
            <a:rect l="textAreaLeft" t="textAreaTop" r="textAreaRight" b="textAreaBottom"/>
            <a:pathLst>
              <a:path w="21600" h="149347">
                <a:moveTo>
                  <a:pt x="3600" y="0"/>
                </a:moveTo>
                <a:arcTo wR="3600" hR="3600" stAng="16200000" swAng="-5400000"/>
                <a:lnTo>
                  <a:pt x="0" y="145747"/>
                </a:lnTo>
                <a:arcTo wR="3600" hR="3600" stAng="10800000" swAng="-5400000"/>
                <a:lnTo>
                  <a:pt x="18000" y="149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1 декабр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1295280" y="30492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cc99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ИСПОЛНЕНИЕ БЮДЖ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295280" y="1143000"/>
            <a:ext cx="6553440" cy="457200"/>
          </a:xfrm>
          <a:prstGeom prst="roundRect">
            <a:avLst>
              <a:gd name="adj" fmla="val 16667"/>
            </a:avLst>
          </a:prstGeom>
          <a:solidFill>
            <a:srgbClr val="ff99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 кодекс Российской Федер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1295280" y="1752480"/>
            <a:ext cx="6553440" cy="533520"/>
          </a:xfrm>
          <a:prstGeom prst="roundRect">
            <a:avLst>
              <a:gd name="adj" fmla="val 16667"/>
            </a:avLst>
          </a:prstGeom>
          <a:solidFill>
            <a:srgbClr val="ff99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Положение о бюджетной процессе в муниципальном образован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1066680" y="609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7924680" y="685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1295280" y="2438280"/>
            <a:ext cx="6629400" cy="533520"/>
          </a:xfrm>
          <a:prstGeom prst="roundRect">
            <a:avLst>
              <a:gd name="adj" fmla="val 16667"/>
            </a:avLst>
          </a:prstGeom>
          <a:solidFill>
            <a:srgbClr val="ff99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шение Совета о районном бюдже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295280" y="3200400"/>
            <a:ext cx="6553440" cy="533520"/>
          </a:xfrm>
          <a:prstGeom prst="roundRect">
            <a:avLst>
              <a:gd name="adj" fmla="val 16667"/>
            </a:avLst>
          </a:prstGeom>
          <a:solidFill>
            <a:srgbClr val="ff99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Постановление администрации о мерах по реализации решения о районном бюдже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1295280" y="3962520"/>
            <a:ext cx="6553440" cy="609480"/>
          </a:xfrm>
          <a:prstGeom prst="roundRect">
            <a:avLst>
              <a:gd name="adj" fmla="val 16667"/>
            </a:avLst>
          </a:prstGeom>
          <a:solidFill>
            <a:srgbClr val="ff99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Сводная бюджетная роспись районного бюдж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295280" y="4724280"/>
            <a:ext cx="6629400" cy="609840"/>
          </a:xfrm>
          <a:prstGeom prst="roundRect">
            <a:avLst>
              <a:gd name="adj" fmla="val 16667"/>
            </a:avLst>
          </a:prstGeom>
          <a:solidFill>
            <a:srgbClr val="ff99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Кассовый план районного бюдж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1295280" y="6019920"/>
            <a:ext cx="6629400" cy="609480"/>
          </a:xfrm>
          <a:prstGeom prst="roundRect">
            <a:avLst>
              <a:gd name="adj" fmla="val 16667"/>
            </a:avLst>
          </a:prstGeom>
          <a:solidFill>
            <a:srgbClr val="ff99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Бюджетная см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1295280" y="5410080"/>
            <a:ext cx="6629400" cy="609840"/>
          </a:xfrm>
          <a:prstGeom prst="roundRect">
            <a:avLst>
              <a:gd name="adj" fmla="val 16667"/>
            </a:avLst>
          </a:prstGeom>
          <a:solidFill>
            <a:srgbClr val="ff99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Бюджетная роспись главного распорядителя (распорядител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ые характеристики районного бюджета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н. руб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04920" y="1676520"/>
          <a:ext cx="8496360" cy="434340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000"/>
                <a:gridCol w="2124360"/>
              </a:tblGrid>
              <a:tr h="53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тверждено на 2013 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оначаль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учетом внесенных измен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объем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3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0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487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й объем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1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491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фицит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-), профицит (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3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Районный бюджет исполнение основных характеристик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за 2013 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838080" y="2514600"/>
          <a:ext cx="7394760" cy="2692440"/>
        </p:xfrm>
        <a:graphic>
          <a:graphicData uri="http://schemas.openxmlformats.org/drawingml/2006/table">
            <a:tbl>
              <a:tblPr/>
              <a:tblGrid>
                <a:gridCol w="2773440"/>
                <a:gridCol w="1649520"/>
                <a:gridCol w="1454040"/>
                <a:gridCol w="1517760"/>
              </a:tblGrid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исп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880,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841,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95,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893,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820,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91,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фицит (-), профицит (+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-13,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20,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Исполнен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районного бюдже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о доход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5201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52280" y="76320"/>
          <a:ext cx="8763120" cy="6359400"/>
        </p:xfrm>
        <a:graphic>
          <a:graphicData uri="http://schemas.openxmlformats.org/drawingml/2006/table">
            <a:tbl>
              <a:tblPr/>
              <a:tblGrid>
                <a:gridCol w="2895840"/>
                <a:gridCol w="1981080"/>
                <a:gridCol w="1905120"/>
                <a:gridCol w="1981080"/>
              </a:tblGrid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лн.руб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не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млн.руб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испол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6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т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си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4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вен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врат остатков прошлых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.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доход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асчете на 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теля 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lakireva</cp:lastModifiedBy>
  <dcterms:modified xsi:type="dcterms:W3CDTF">2014-06-04T11:08:08Z</dcterms:modified>
  <cp:revision>2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