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08EA-BB25-4A7D-9050-146F0EB2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920B-C486-4D3F-ABB8-1D4239B9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F6598-6B3A-4E2C-A836-9AB3CED4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D68A8-54FF-431A-BBD7-A5EB3203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ABCAF-CE06-4079-BFAF-6566A48B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9C64C0-75F9-4587-9783-06992D07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FAD83-481D-46C8-97E5-3531E9DA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C8445-FF51-4EB9-867A-C794FDF8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4E591-67A7-4D6C-855F-17A775E2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908F2-84A3-46E3-ADA4-CD0B7787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F5F0D5-E43A-4543-9FDA-FE8CEA2F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4F1071-24D6-429A-BAD1-755B9D07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2F3-0AF1-469D-A39F-017B195F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4FB53-7FB7-4E64-B379-8C74C2BE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F2182D-5FF1-46E9-8BAD-B54145E4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E5F8D-6ECA-4FF8-B330-8F52DBDA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8BD2A7-38E4-4090-9063-984A63C5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DD40DC-5EF8-4DEE-8616-786F1C05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5FFE2E-DEC0-4AF3-99B7-F8A86A01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4755F-92F1-4D94-A51F-0327FDFF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B311D-9D9C-4CFF-84B6-F8B7638C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861E7A-83D9-4FA6-AFBF-F5612218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E482BD-F63F-4870-95D6-AFD35C9A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0DD9-B143-47BE-9669-32DA3B19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CF10DA-7B9A-476E-8340-034EC7AA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3785F-269E-4BCC-8896-3C4DB8B8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9525E-B484-4DBB-A841-C52C5354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D1A49-EA20-4971-A3B8-91F6595F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B7748-F63E-4F20-B4E5-3A19F7E9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81BEE-0617-4C60-9159-C4A59658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E5E30-2D67-416C-B651-FBA6AFEA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63EDE-6ECB-4CBF-9051-5FE90521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E1FDE-8E69-47DC-AA77-B669697D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FE16C-5D3C-4B12-A8CF-B4B8D8D9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062E-C3FE-445C-8661-10A3F27C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52B3F-A676-4A80-9A02-3C06A3BB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DDAEF-0798-4957-A5A7-17727740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2E571-BC26-47DD-967E-6B8C3232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427396-E46D-42E7-82A0-8CD97114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236A5E-2797-4636-A2D8-1F3F7F50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E221C3-ECE7-4BD3-A8F3-E479C248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8677C4-E6A1-42A3-8567-9A9ACF2B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4F90F6-4961-4168-9554-334843DB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1107FE-A352-410D-A932-3F1A5DF2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D04CA-504B-4ED3-8527-25E91266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23D8-0803-41AA-B4C5-69577D83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955C36-85B1-47C0-B1AD-8EF82E8D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0CF5C7-22DC-41BC-9A60-FF7DE01B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6195EF-3659-4760-87C6-D5E5082E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63A9AA-09D3-499E-A576-5FA2EC5C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0798FE-B8BE-46F3-811F-D229628D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18FE-5583-43FA-94F0-3D8E934B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904D-4674-45D0-81F6-67CB3EAB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4480-CDA1-452B-B81D-FF2DEB26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1B50-E824-46C1-8340-5702F9F4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E7F6-7DBF-43EC-98A1-2725DA04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322A-4B93-40D7-8ACF-35BA2BAD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746B-C934-401D-87F0-F025DFC9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B0B4-3F36-4457-A8F8-183BA585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169A-7C58-457B-8558-8A65D8E2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FFF3-57E0-4DB1-81E0-0C930346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4C6E-267D-418B-99A1-0272101D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E338C-BA1D-41FB-A042-E3C348BC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EF545-3CDB-42DB-A2CE-9DD34706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5EBE2-6036-4C98-BE19-B0D4F102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97091-A8EB-4A29-91EE-EF75ABE1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B9E69-BCBA-4F3D-899C-79597E48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9DB0-1F20-4CF4-BC31-D2B375F4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DD4F1-7B5F-4733-818A-867A22A4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5197A-DB5E-4483-8355-2625E181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B480E-E4DB-47A0-B80B-4CA59399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552B5-D212-42EC-956C-F8560260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675F2-DC91-4D98-B5E4-03EB8467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3DCEE-ED8C-4EB9-B5D6-04695BF5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3F630-6AE0-4659-A723-4C2B4403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ECA84-8FB0-4DF2-90F8-373BDE69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EA619-CB1E-4213-874C-9FF6320D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AA6C6-F909-45B9-9B7C-1EBEC9B8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263-CCA5-4B21-B420-A7659C4F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9D0AA-EE58-48D1-9C3D-E8DBB900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6CF9B-CAC7-488C-8D05-F56B2E21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8F460-CC12-4A96-AD18-82A98EFF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F4226-DE22-42B1-8FBE-63659EEA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FBB8B-46E7-49FC-AFF0-F326713A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57391-7D21-4153-BCAB-3918C6C6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1AB5A-FAD5-4BEE-BB35-5D87C7BB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59F7E-661C-498D-970C-54F3EE50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F5AE5-0D8C-4A8F-96A0-A8F51E5D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B9C9D-9E67-49D6-832B-438A0131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F9F-5FBE-401D-9BBB-892BE877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A06C3-BC89-4B35-BC47-4C4CCF66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E1D80-4437-4A4E-8D23-49CD32B4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333CA-7871-4553-8613-6DB278AA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E1F12-3D16-4AE0-9825-3797F51A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4631D-7271-43C6-97D5-B9B0AF24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8F0AD-A7BD-4AEE-A72C-0772FF6A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D7571-76CA-4EC2-9314-721BE4FC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677F9-B0DB-4AC3-B427-AD41EC2D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131D6-6098-47DB-961A-48305906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1A5AC-2D97-40BE-9FEC-54AC6488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8825-EECA-4ADE-8D10-60854842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ABEFF-AEC4-4FEC-8C7D-0F54793D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EA313-89D8-4039-97DC-D9C21739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F8D34-4394-499F-AFFF-0A523755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A8C0F-DB25-415B-98EE-C5E114A2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44C7E-DBC0-46BD-B574-3095257C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A64CF-FEB0-4795-BE62-ACFE6F95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B6510-CA3A-4425-9BED-91BBAA66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8EA08-78AE-4800-ABD4-F3E2029F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E4D9A-1C7C-44BF-B42D-182B824E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38536-3E78-49E6-92EB-FE412635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0E5F-EF8B-46D1-86D5-7991BE43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7EED5-3C3C-468C-A17F-1C96FC47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9CD94-B542-41C4-A912-02EE1B2B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603B8-AF6D-4627-AFCA-E7D504C1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93D66-A765-4609-AC4A-D3CC933B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E0DED-E2FB-4502-841B-7F753574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5BE10-9334-4270-9CE5-8F4B9F1F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F77A7-3DBD-46EF-9E29-990A8720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E3262-B2D6-4DE7-BDDD-ACE9F6F3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CB400-097B-4AB3-A686-DD7F40FB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6CDED-14AA-4BFD-90A5-9F98AE19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D3D-127F-47A5-BF68-9B4E7788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EE62B-7D90-4238-86CF-128A529F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9CDAC-B209-46AD-AE7C-70224FA9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019E3-E70E-4329-A209-E4F2145B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FF5C7-87FA-4352-AC98-FA70C172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B6F8E-7F11-4C03-A43B-2BF3BAED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A7FDA-C88C-4582-AFB3-C535C86A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C44A7-DE6F-42F1-8B17-3060DB41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206BE-ACF7-4B74-A3D1-2D5B743E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0979B-7856-449F-951A-F8F2F029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1E7C0-8DF1-4012-9095-D3F86AD6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4AD-D13C-4B9E-B1AC-692398D9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42B5A-9814-4206-A391-3588C75D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4E5D9-9170-48F3-A60A-18603BBF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64ABA-B305-418E-A22A-823B509E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3D05B-66BE-4721-A353-DA0962C8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8B9F2-2251-4D06-B1A0-75106BF3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3E1E6-6D1B-4A7E-95C4-C0A0A6D1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EFD02-4816-4B99-B9FF-BFAA947F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A1702-2256-4199-999C-03252369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587B5D-3AB5-4F64-8598-087A6D8D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DA03C-28C9-4F23-BA39-A58BC758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2DFF-EF0D-4321-B365-7317840CA73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1222-5957-4BCC-93F4-4DD6F76AAD8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7422-3C42-4000-9248-F4972CC54D0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74E0-07E9-4783-8DA0-89A10AB3C66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4087-CE7A-4053-868D-C5C56FB40C1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D400-581D-41E6-ACD3-36FE2CD0CA4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9383-207F-4062-8985-2F7657BE42B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FBC1-6635-45B0-8D8F-9856D741D06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B66F-4C6C-46E7-8B34-5DF368EB3FC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A55A-447B-4617-B1F9-68C903F001F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1B36-A447-437E-B660-8FD255D0E9B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93AC-9492-41FD-BCE4-DE7E0048FEF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5029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я к проекту решения Совета муниципального образования </a:t>
            </a:r>
            <a:br>
              <a:rPr sz="3300"/>
            </a:br>
            <a:r>
              <a:rPr b="0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Каминское сельское поселение Родниковского муниципального района Ивановской области» «Об утверждении отчета об исполнении бюджета Каминского сельского поселения за 2021 год»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 основных характеристик  бюджета Каминского сельского поселения за 2021 год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380880" y="1523880"/>
          <a:ext cx="8458200" cy="4249800"/>
        </p:xfrm>
        <a:graphic>
          <a:graphicData uri="http://schemas.openxmlformats.org/drawingml/2006/table">
            <a:tbl>
              <a:tblPr/>
              <a:tblGrid>
                <a:gridCol w="5372280"/>
                <a:gridCol w="3085920"/>
              </a:tblGrid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сполнено (рубле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бюдж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475398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 бюдж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659535,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2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ицит бюдж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84136,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01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доходов бюджета Каминского сельского поселения за 2021 год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457200" y="1905120"/>
          <a:ext cx="8305920" cy="3809880"/>
        </p:xfrm>
        <a:graphic>
          <a:graphicData uri="http://schemas.openxmlformats.org/drawingml/2006/table">
            <a:tbl>
              <a:tblPr/>
              <a:tblGrid>
                <a:gridCol w="5829480"/>
                <a:gridCol w="2476440"/>
              </a:tblGrid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8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бле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8c2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БЮДЖЕТА - ВСЕГ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75398,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33515,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284,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46598,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доходов бюджета Каминского сельского поселения за 2021 год 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2" name="Диаграмма 4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58528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налоговых доходов бюджета Каминского сельского поселения за 2021 год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4" name="Содержимое 3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безвозмездных поступлений бюджета Каминского сельского поселения за 2021 год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6" name="Содержимое 3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04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расходов бюджета Каминского сельского поселения по разделам  классификации расходов бюджетов за 2021 год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152280" y="1828800"/>
          <a:ext cx="8839440" cy="4305240"/>
        </p:xfrm>
        <a:graphic>
          <a:graphicData uri="http://schemas.openxmlformats.org/drawingml/2006/table">
            <a:tbl>
              <a:tblPr/>
              <a:tblGrid>
                <a:gridCol w="5956560"/>
                <a:gridCol w="2882880"/>
              </a:tblGrid>
              <a:tr h="579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 разд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(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93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84932,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66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4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96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1622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93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82191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66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7985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79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69404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468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451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РАСХОДОВ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59535,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расходов бюджета Каминского сельского поселения за 2021 год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Содержимое 3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686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 Каминского сельского поселения по муниципальным программам за 2021 год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304920" y="1600200"/>
          <a:ext cx="8610480" cy="4756320"/>
        </p:xfrm>
        <a:graphic>
          <a:graphicData uri="http://schemas.openxmlformats.org/drawingml/2006/table">
            <a:tbl>
              <a:tblPr/>
              <a:tblGrid>
                <a:gridCol w="6146640"/>
                <a:gridCol w="246384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ое испол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71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Совершенствование органов местного самоуправления Каминского сельского поселения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64077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67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Благоустройство территории Каминского сельского поселения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6677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703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Развитие культуры и спорта на территории Каминского сельского поселения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5904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89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Обеспечение безопасности территории Каминского сельского поселения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6804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871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 РАСХОДОВ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43462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ера Оболенская</dc:creator>
  <dc:description/>
  <dc:language>en-US</dc:language>
  <cp:lastModifiedBy>subbotinaos</cp:lastModifiedBy>
  <dcterms:modified xsi:type="dcterms:W3CDTF">2022-02-03T08:39:33Z</dcterms:modified>
  <cp:revision>2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