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755-133F-43A1-A4B1-8032726F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E08-6717-4CF9-9AA8-147DDBC9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DD8-7F33-482C-B857-0BC48D7C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053-5E59-496C-8861-DD73671C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C5A2-DCBC-4F5E-AEAA-1A57BE83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D8B1-B4C9-4442-A77F-B2E712E1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D2B-1B5E-40A0-ABDB-BFAF2FEA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DF20-2445-4489-90F4-CDAA6761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C836-7C53-40F1-AF05-A7CB2C27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EEAD-D275-47DC-973D-695B1CD6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9B34-C3FD-4348-B913-C9D16843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C18-4708-4C40-9719-BF7BB4EB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B33F-20FC-46C5-9E25-74AD62B6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1AA-AA9F-4DFF-919F-971B6D3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F050-A53D-4AA6-8309-52CCC979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BE0F-4B32-4129-A5FC-F8EB83C4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C2F8-2F3B-485C-82DC-31E37EB7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BC0F9-9927-4B21-BD13-1A3E4D8F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B1269-6358-48FA-8311-11B95825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275C-16B1-4D5E-853C-8D9A6143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5286-9A95-4D7D-86FE-CB3FD80A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FCE31-7184-40BF-B9C5-9333442E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4EF4-B9AB-435B-B2E5-A07BBC62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9B9D-0BA2-4271-8D34-3DB6A7E2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6AF6-0F75-4CFF-9777-0FE00217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7D031-4DD6-4595-A172-A80DCF08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26DC3-6C2F-4AF0-AF62-E650959F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20A96-05AE-4EFB-B131-FD071748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FCD9-ED63-41E3-8447-DB4C42BB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FFBF-8CE0-4E19-BA34-8C6624CA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75ACB-D656-49F0-8D11-10649706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E5132-0EF3-43CC-A0FF-4368F53B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8FED-9FBD-4708-A506-AFE694B3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C57-F497-48CD-B21B-50AECF88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9FA89-6658-4C33-AB5B-BC2C0982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CBDD-E941-49C5-879E-B2FECDCD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3347-94FA-4A4D-9C1D-80B34833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937A-D879-4C78-B6C1-B50D747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627C-6F23-4220-9FEE-81C20FF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B6F62-5421-4245-992E-FC4F454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F99F3-C79C-4336-A1B7-5513A94A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39E7-BA76-435E-9C3B-2A85FA2D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2B4A-DB9E-4D38-B9A4-52776600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DD661-F730-4D8F-A9DC-6434043D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0BE-10E9-49AF-AE96-EDC606B5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3F67E-B7F9-4A4B-ADF8-2DD5569B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28756-67C6-4F3F-BE0B-D5DB62D7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FBA0-A3B3-4186-B5D7-CC47F0B4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02D1-FB2D-45B5-BB34-CF9EAF5E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489E0-7C2A-46ED-A8E6-438158E5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CB325-4C25-41C4-98E8-C5C65C3A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564D8-2B7D-4CA4-A8FE-46A1FF8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D8A7A-1C7B-4D1E-A41B-FE3F3BD7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3B5FB-5847-49D9-9AD6-D543B9A7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AD3B9-FA3A-4F78-997B-2616213B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07B-8127-430B-939A-D5894AA8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21320-D204-42A7-AFB2-23C39F4E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B8113-90B6-41E5-84EA-8BA48EE6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F32D6-E21E-4859-B286-AEC7CF0E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E9D76-39C0-46C9-A898-8131D3AB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349CA-3A29-4355-B68B-6EFBB412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0115D-33E1-4BA4-BA2F-3E91897E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8B41-9B31-4E1A-9112-9652BEF2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80821-CBDC-4D2E-BCC7-E07A0213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DDF5A-C42F-4F79-B045-E3007E1E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74A99-5BA2-4857-AE5A-5F729CE8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2767-8B60-44EF-984E-99418B8E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FA723-6AF2-4493-A9A6-6EF2CDF6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D4771-61A8-4F10-9854-69F69E84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29FE5-FAF4-48E5-9A4D-A745592C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4E01-90C0-413C-AB35-ABC06387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C46-A70E-4580-9CAF-D296017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CE32-BD4A-4A49-A3C2-AF5E0A5B859C}" type="slidenum">
              <a:rPr b="0" lang="ru-RU" sz="1200" spc="-1" strike="noStrike">
                <a:solidFill>
                  <a:srgbClr val="4471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0569-7519-4BEB-8177-05DD19AF92F0}" type="slidenum">
              <a:rPr b="0" lang="ru-RU" sz="1200" spc="-1" strike="noStrike">
                <a:solidFill>
                  <a:srgbClr val="4471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3D35-10FE-410F-969E-12DEF8B16CC0}" type="slidenum">
              <a:rPr b="0" lang="ru-RU" sz="1200" spc="-1" strike="noStrike">
                <a:solidFill>
                  <a:srgbClr val="4471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5FE1-14B5-4A32-BF0F-A2120A5E01ED}" type="slidenum">
              <a:rPr b="0" lang="ru-RU" sz="1200" spc="-1" strike="noStrike">
                <a:solidFill>
                  <a:srgbClr val="4471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FBB-AB03-4DD3-93B3-1AB851EC7B67}" type="slidenum">
              <a:rPr b="0" lang="ru-RU" sz="1200" spc="-1" strike="noStrike">
                <a:solidFill>
                  <a:srgbClr val="4471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2975-15C9-4D3E-BDFF-B32A0CC581B2}" type="slidenum">
              <a:rPr b="0" lang="ru-RU" sz="1200" spc="-1" strike="noStrike">
                <a:solidFill>
                  <a:srgbClr val="4471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Franklin Gothic Medium"/>
              </a:rPr>
              <a:t>ОТЧЕТ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Franklin Gothic Medium"/>
              </a:rPr>
              <a:t> ОБ ИСПОЛНЕНИИ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Franklin Gothic Medium"/>
              </a:rPr>
              <a:t>БЮДЖЕТА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Franklin Gothic Medium"/>
              </a:rPr>
              <a:t>КАМИНСКОГО СЕЛЬСКОГО ПОСЕЛЕНИЯ   ЗА 2019 ГОД</a:t>
            </a:r>
            <a:endParaRPr b="0" lang="en-US" sz="4500" spc="-1" strike="noStrike">
              <a:solidFill>
                <a:srgbClr val="1f497d"/>
              </a:solidFill>
              <a:latin typeface="Franklin Gothic Mediu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2060"/>
                </a:solidFill>
                <a:latin typeface="Franklin Gothic Medium"/>
              </a:rPr>
              <a:t> </a:t>
            </a:r>
            <a:r>
              <a:rPr b="1" lang="ru-RU" sz="3400" spc="-1" strike="noStrike">
                <a:solidFill>
                  <a:srgbClr val="002060"/>
                </a:solidFill>
                <a:latin typeface="Franklin Gothic Medium"/>
              </a:rPr>
              <a:t>МУНИЦИПАЛЬНОЕ  ОБРАЗОВАНИЕ:</a:t>
            </a:r>
            <a:br>
              <a:rPr sz="3400"/>
            </a:br>
            <a:r>
              <a:rPr b="0" lang="ru-RU" sz="3400" spc="-1" strike="noStrike">
                <a:solidFill>
                  <a:srgbClr val="002060"/>
                </a:solidFill>
                <a:latin typeface="Franklin Gothic Medium"/>
              </a:rPr>
              <a:t>КАМИНСКОЕ СЕЛЬСКОЕ ПОСЕЛЕНИЕ</a:t>
            </a:r>
            <a:br>
              <a:rPr sz="3400"/>
            </a:br>
            <a:r>
              <a:rPr b="0" lang="ru-RU" sz="3400" spc="-1" strike="noStrike">
                <a:solidFill>
                  <a:srgbClr val="002060"/>
                </a:solidFill>
                <a:latin typeface="Franklin Gothic Medium"/>
              </a:rPr>
              <a:t>РОДНИКОВСКОГО МУНИЦИПАЛЬНОГО РАЙОНА</a:t>
            </a:r>
            <a:br>
              <a:rPr sz="3400"/>
            </a:br>
            <a:r>
              <a:rPr b="0" lang="ru-RU" sz="3400" spc="-1" strike="noStrike">
                <a:solidFill>
                  <a:srgbClr val="002060"/>
                </a:solidFill>
                <a:latin typeface="Franklin Gothic Medium"/>
              </a:rPr>
              <a:t>ИВАНОВСКОЙ ОБЛАСТИ</a:t>
            </a:r>
            <a:br>
              <a:rPr sz="3400"/>
            </a:br>
            <a:r>
              <a:rPr b="0" lang="ru-RU" sz="3400" spc="-1" strike="noStrike">
                <a:solidFill>
                  <a:srgbClr val="002060"/>
                </a:solidFill>
                <a:latin typeface="Franklin Gothic Medium"/>
              </a:rPr>
              <a:t>          </a:t>
            </a:r>
            <a:r>
              <a:rPr b="1" lang="ru-RU" sz="3400" spc="-1" strike="noStrike">
                <a:solidFill>
                  <a:srgbClr val="002060"/>
                </a:solidFill>
                <a:latin typeface="Franklin Gothic Medium"/>
              </a:rPr>
              <a:t>НАИМЕНОВАНИЕ БЮДЖЕТА:</a:t>
            </a:r>
            <a:br>
              <a:rPr sz="3400"/>
            </a:br>
            <a:r>
              <a:rPr b="0" lang="ru-RU" sz="3400" spc="-1" strike="noStrike">
                <a:solidFill>
                  <a:srgbClr val="002060"/>
                </a:solidFill>
                <a:latin typeface="Franklin Gothic Medium"/>
              </a:rPr>
              <a:t>  </a:t>
            </a:r>
            <a:r>
              <a:rPr b="1" lang="ru-RU" sz="3400" spc="-1" strike="noStrike">
                <a:solidFill>
                  <a:srgbClr val="002060"/>
                </a:solidFill>
                <a:latin typeface="Franklin Gothic Medium"/>
              </a:rPr>
              <a:t>БЮДЖЕТ КАМИНСКОГО</a:t>
            </a:r>
            <a:br>
              <a:rPr sz="3400"/>
            </a:br>
            <a:r>
              <a:rPr b="1" lang="ru-RU" sz="3400" spc="-1" strike="noStrike">
                <a:solidFill>
                  <a:srgbClr val="002060"/>
                </a:solidFill>
                <a:latin typeface="Franklin Gothic Medium"/>
              </a:rPr>
              <a:t>СЕЛЬСКОГО ПОСЕЛЕНИЯ</a:t>
            </a:r>
            <a:br>
              <a:rPr sz="3400"/>
            </a:br>
            <a:r>
              <a:rPr b="1" lang="ru-RU" sz="3400" spc="-1" strike="noStrike">
                <a:solidFill>
                  <a:srgbClr val="002060"/>
                </a:solidFill>
                <a:latin typeface="Franklin Gothic Medium"/>
              </a:rPr>
              <a:t>ПЕРИОДИЧНОСТЬ:  ГОДОВАЯ</a:t>
            </a:r>
            <a:br>
              <a:rPr sz="3400"/>
            </a:br>
            <a:r>
              <a:rPr b="1" lang="ru-RU" sz="3400" spc="-1" strike="noStrike">
                <a:solidFill>
                  <a:srgbClr val="002060"/>
                </a:solidFill>
                <a:latin typeface="Franklin Gothic Medium"/>
              </a:rPr>
              <a:t> ЕДИНИЦА ИЗМЕРЕНИЯ: ТЫС.РУБ</a:t>
            </a:r>
            <a:r>
              <a:rPr b="1" lang="ru-RU" sz="34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r>
              <a:rPr b="0" lang="ru-RU" sz="3900" spc="-1" strike="noStrike">
                <a:solidFill>
                  <a:srgbClr val="1f497d"/>
                </a:solidFill>
                <a:latin typeface="Franklin Gothic Medium"/>
              </a:rPr>
              <a:t> </a:t>
            </a:r>
            <a:endParaRPr b="0" lang="en-US" sz="3900" spc="-1" strike="noStrike">
              <a:solidFill>
                <a:srgbClr val="1f497d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7598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ИСПОЛНЕНИЕ ОСНОВНЫХ ХАРАКТЕРИСТИК БЮДЖЕТА КАМИНСКОГО СЕЛЬСКОГО ПОСЕЛЕНИЯ ЗА 2019 ГОД</a:t>
            </a:r>
            <a:endParaRPr b="0" lang="en-US" sz="32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53352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3828960"/>
                <a:gridCol w="1711440"/>
                <a:gridCol w="1547640"/>
                <a:gridCol w="1141560"/>
              </a:tblGrid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твержде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% 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бюдж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99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8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 бюдж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11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47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(-) профицит (+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1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7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  <a:ea typeface="Aharoni"/>
              </a:rPr>
              <a:t>ИСПОЛНЕНИЕ</a:t>
            </a: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 ДОХОДОВ БЮДЖЕТА КАМИНСКОГО СЕЛЬСКОГО ПОСЕЛЕНИЯ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ЗА 2019 ГОД</a:t>
            </a:r>
            <a:endParaRPr b="0" lang="en-US" sz="32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143000" y="1828800"/>
          <a:ext cx="7532640" cy="4313160"/>
        </p:xfrm>
        <a:graphic>
          <a:graphicData uri="http://schemas.openxmlformats.org/drawingml/2006/table">
            <a:tbl>
              <a:tblPr/>
              <a:tblGrid>
                <a:gridCol w="3422520"/>
                <a:gridCol w="1454400"/>
                <a:gridCol w="1452600"/>
                <a:gridCol w="1203120"/>
              </a:tblGrid>
              <a:tr h="85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БЮДЖЕТА - ВСЕ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9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48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3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9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6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8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СТРУКТУРА НАЛОГОВЫХ И НЕНАЛОГОВЫХ ДОХОДОВ БЮДЖЕТА КАМИНСКОГО СЕЛЬСКОГО ПОСЕЛЕНИЯ ЗА 2019 ГОД</a:t>
            </a:r>
            <a:endParaRPr b="0" lang="en-US" sz="3200" spc="-1" strike="noStrike">
              <a:solidFill>
                <a:srgbClr val="1f497d"/>
              </a:solidFill>
              <a:latin typeface="Franklin Gothic Medium"/>
            </a:endParaRPr>
          </a:p>
        </p:txBody>
      </p:sp>
      <p:pic>
        <p:nvPicPr>
          <p:cNvPr id="319" name="Содержимое 3" descr=""/>
          <p:cNvPicPr/>
          <p:nvPr/>
        </p:nvPicPr>
        <p:blipFill>
          <a:blip r:embed="rId1"/>
          <a:stretch/>
        </p:blipFill>
        <p:spPr>
          <a:xfrm>
            <a:off x="380880" y="1811160"/>
            <a:ext cx="838224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Medium"/>
              </a:rPr>
              <a:t>ИСПОЛНЕНИЕ РАСХОДОВ БЮДЖЕТА КАМИНСКОГО СЕЛЬСКОГО ПОСЕЛЕНИЯ ПО РАЗДЕЛАМ КЛАССИФИКАЦИИ РАСХОДОВ БЮДЖЕТОВ ЗА 2019 ГОД </a:t>
            </a:r>
            <a:endParaRPr b="0" lang="en-US" sz="32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2109960"/>
          <a:ext cx="8458200" cy="4443120"/>
        </p:xfrm>
        <a:graphic>
          <a:graphicData uri="http://schemas.openxmlformats.org/drawingml/2006/table">
            <a:tbl>
              <a:tblPr/>
              <a:tblGrid>
                <a:gridCol w="3971880"/>
                <a:gridCol w="1604880"/>
                <a:gridCol w="1605240"/>
                <a:gridCol w="127620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именование разд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сполне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7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8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8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5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1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4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Franklin Gothic Medium"/>
              </a:rPr>
              <a:t>ИСПОЛНЕНИЕ БЮДЖЕТА  КАМИНСКОГО СЕЛЬСКОГО ПОСЕЛЕНИЯ ПО МУНИЦИПАЛЬНЫМ ПРОГРАММАМ ЗА 2019 ГОД</a:t>
            </a:r>
            <a:endParaRPr b="0" lang="en-US" sz="2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520" y="1600200"/>
          <a:ext cx="8305560" cy="4846680"/>
        </p:xfrm>
        <a:graphic>
          <a:graphicData uri="http://schemas.openxmlformats.org/drawingml/2006/table">
            <a:tbl>
              <a:tblPr/>
              <a:tblGrid>
                <a:gridCol w="3827520"/>
                <a:gridCol w="1709640"/>
                <a:gridCol w="1628640"/>
                <a:gridCol w="1139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именование 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%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"Совершенствование органов местного самоуправления Каминского сельского поселени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1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6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"Благоустройство территории Каминского сельского поселени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"Обеспечение безопасности территории Каминского сельского поселени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"Развитие культуры и спорта на территории Каминского сельского поселения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7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ера Оболенская</dc:creator>
  <dc:description/>
  <dc:language>en-US</dc:language>
  <cp:lastModifiedBy>obolenskayavn</cp:lastModifiedBy>
  <dcterms:modified xsi:type="dcterms:W3CDTF">2020-04-28T11:06:02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