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EBD-DEBC-4DF0-A0F4-FC1CE5609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22D-3F9A-4B5F-8717-25A0A85DF0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018-2C84-4659-B623-486BA2C6F2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8160-8572-4861-B51C-0123A7D011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DDB-E91B-4E00-AA8D-8E2455B4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ABF-E262-40D6-B10A-1B80D37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A8C-4ECE-4111-B4AC-CE020E78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C66-65C2-4579-83E0-FB1161DE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CE7-786F-421E-9DFE-D8DDF913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240-8B02-412D-A821-D57C3D42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69CD-FE79-4657-86B0-BC17FA09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F53-82A3-4884-B3E3-8607E163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875-9C9F-4B31-A6D7-7152520F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97E0-B66B-4C35-B44D-97A6D7B4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953A-890E-45F7-A184-7995851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059-4099-47DE-AE34-C446C49D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FDC-EEBA-48F0-8116-8EE1212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DA1-1AF1-466D-8CDD-0B801B0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5061-0C50-444E-8CAF-50CB60F7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42EA-B7F1-4AD5-B668-97E7FBA8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7C06-AC0B-4E85-A8AA-3E00189A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11F-00B5-4EA0-8346-C18100DD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C77-8E91-4578-B82B-1D5D1821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413-43BA-4822-9DEE-25F01B0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697-8161-4824-B801-AF6AB0F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EA5-45D4-42FF-A058-E087728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DD1-FA04-49F9-A674-C01E592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E47-6AEC-4215-94E4-C0EF28A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BA6-B7DC-4E46-8125-2BEB42779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1220-2767-416C-BA6F-70786DE696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 для граждан по проекту решения Совета муниципального образования «Родниковское городское поселение Родниковского муниципального района Ивановской области»</a:t>
            </a:r>
            <a:br>
              <a:rPr sz="6000"/>
            </a:br>
            <a:br>
              <a:rPr sz="60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 утверждении отчета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 исполнении бюджета Родниковского городского поселения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2022 год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 для граждан по проекту решения Совета муниципального образования «Родниковское городское поселение Родниковского муниципального района Ивановской области»</a:t>
            </a:r>
            <a:br>
              <a:rPr sz="60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б утверждении отчета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 исполнении бюджета Родниковского городского поселения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 2022 год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основных характеристик бюдже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дниковского городского поселе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2022 год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1905120"/>
          <a:ext cx="8381880" cy="3127320"/>
        </p:xfrm>
        <a:graphic>
          <a:graphicData uri="http://schemas.openxmlformats.org/drawingml/2006/table">
            <a:tbl>
              <a:tblPr/>
              <a:tblGrid>
                <a:gridCol w="4724280"/>
                <a:gridCol w="36576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( млн. рубле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457200" y="1143000"/>
          <a:ext cx="8381880" cy="3711600"/>
        </p:xfrm>
        <a:graphic>
          <a:graphicData uri="http://schemas.openxmlformats.org/drawingml/2006/table">
            <a:tbl>
              <a:tblPr/>
              <a:tblGrid>
                <a:gridCol w="6067440"/>
                <a:gridCol w="23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млн.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си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бюджетов городских поселений от возврата остатков субсидий, субвенций и иных межбюджетных трансфертов, имеющих целевое назна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Прямоугольник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нение доходов бюджета Родниковского городского поселения за 2022 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руктура доходов бюджета Родниковского городского поселения  за 2022 год  </a:t>
            </a:r>
            <a:br>
              <a:rPr sz="28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млн. руб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Диаграмма 3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686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96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Структура налоговых доходов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бюджета Родниковского городского посел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                                за 2022 год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바탕"/>
                <a:ea typeface="바탕"/>
              </a:rPr>
              <a:t>(млн.руб.)        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Таблица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неналоговых доходов бюджета Родниковского городского поселения за 2022 год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Таблица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труктура расходов бюджета Родниковского городского поселения по разделам классификации расходов бюджетов за 2022 год               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(млн.руб.)</a:t>
            </a:r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Содержимое 3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Исполнение бюджет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одниковского городского поселения за 2022 год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 муниципальным программ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80880" y="1677960"/>
          <a:ext cx="8382240" cy="4197240"/>
        </p:xfrm>
        <a:graphic>
          <a:graphicData uri="http://schemas.openxmlformats.org/drawingml/2006/table">
            <a:tbl>
              <a:tblPr/>
              <a:tblGrid>
                <a:gridCol w="6185160"/>
                <a:gridCol w="219708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млн. руб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Благоустройство территории Родниковского городского поселения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7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филактика правонарушений и обеспечение безопасности граждан на территории Родниковского городского поселения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6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Культурное пространство города Родник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4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Развитие жилищно-коммунального хозяйства в Родниковском городском поселени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68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Формирование современной городской среды на территории муниципального образования "Родниковское городское поселение Родниковского муниципального района Ивановской области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2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457"/>
                          </a:solidFill>
                          <a:latin typeface="Times New Roman"/>
                          <a:ea typeface="Times New Roman"/>
                        </a:rPr>
                        <a:t>264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ограммные направления деятельности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295280"/>
          <a:ext cx="8229600" cy="503424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ма 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Функционирование представительного органа посел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2 446,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На создание условий для предоставления транспортных услуг населению и организации транспортного обслуживания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10 96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 бюджету муниципального райо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89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Членские взносы в Совет муниципальных образован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7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Штрафные санкции контролирующих орга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Расходы на оплату юридически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15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Выплата премий к Почетным грамотам Совета муниципального образова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муниципальным служащи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3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ae8"/>
                          </a:solidFill>
                          <a:latin typeface="Times New Roman"/>
                          <a:ea typeface="Times New Roman"/>
                        </a:rPr>
                        <a:t>14 71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 Балакирева_</dc:creator>
  <dc:description/>
  <dc:language>en-US</dc:language>
  <cp:lastModifiedBy>balakirevang</cp:lastModifiedBy>
  <dcterms:modified xsi:type="dcterms:W3CDTF">2023-04-03T14:17:30Z</dcterms:modified>
  <cp:revision>4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