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0A3-19CA-4602-8057-A1FEA78E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951-2D9D-4528-8B47-A20101A4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7C520-8E74-4F10-9FC5-2216F2E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AD641-F51A-4901-9CA4-B63C2B6D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5E57B-EE7E-4AEA-A293-BBCC338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18EE6-F3CA-42AC-BED3-3E892DB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7346B-5B28-43E3-BAFA-D05CD59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914E-91E3-48C7-8D22-BA260A0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21771-4AE0-4345-8660-BB955633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832D2-553C-4F32-98D7-8CD9B077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03B95-92C0-48FB-BA0F-7A185848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D98-C89B-4A13-BAEB-8DF88DB3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7F8-29A9-4CF9-9586-D395B912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AAE-8CC4-4120-B836-9444E628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5C64-1834-4C84-BAAF-FC3D9BD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271E-5ED6-447B-ABD4-2462798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AB5F-0CAE-499C-8546-E6E66560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CA87-B6C8-4C4E-8D6B-5E8AE22D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239-560F-4987-B479-F05D22F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3AE9-84F9-4AAA-BC76-1745876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403-9427-4070-8C4E-BD19100A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AD5-BAEA-4614-8F5B-B3D2A45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B744-4819-49BC-97CF-B8CFB77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FDD8-EF37-4B5C-9B2B-5B70E357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A60-CE06-4D4E-91BA-CEE81EAD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D8E7-0EFF-4FA2-A921-8C2D46FA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97F3-86D8-41B2-AFB7-4DE3F6A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BC3B-E78A-4D21-A4A7-E3310FE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0E0E-9067-415B-9B60-811609FD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EA7A-0940-4B37-833B-DFE86761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9C51-B359-4295-BEC4-20C126F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40A-5299-44C8-9CFE-8F5A6FA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D0CB-BE7D-49C9-A0D4-C3B77C07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83A0-4C60-4805-AE10-BD9217A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ECD8-4743-476B-BB74-7F7FF45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CCD2-18A6-415C-8F55-7DDFBE0D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E386-07B8-4AEA-908D-0D29C470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ED1D-D35D-4BF7-BC72-B0BC856A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8039-D92D-4462-90E9-0BB27548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CD5C-F588-48D4-B6E2-85F23A63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53A0-18AC-4219-8B92-8F53965E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5518-55FC-46E6-ABF8-02074164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D13-FECE-4415-885F-53AE0EEA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539B-2986-410E-94A5-4D7399C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5BF7-C6CE-4126-9622-426F3057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95C6-68C1-4BEF-A960-82FA4081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8AFC-64B4-4BE0-B2CC-9BE1171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D0EC-5211-4082-831B-D27FFB5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D52A0-E49E-40B7-9C6A-015C539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3DFF5-0A00-4E33-8916-37CADE8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F25B-EE63-4366-92AA-98489CCF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67EF-5BF9-4D0E-89E7-FD4C8583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245E-0734-444F-8A29-9B633AA1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6B7-7965-4A58-8E88-BA5A6357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B177D-ADFB-475D-8653-F68582BC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29C8-6B68-46B6-8493-D5B0DB56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7831-64B8-4EAD-AE22-EA8FFC8A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E0E6-109C-4CD1-B703-64C4BCCC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D944-1B0C-4E1E-9659-F495F39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570C0-2D70-4C3F-8E25-17B1CA4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9311-F5AD-407A-AB8C-CFD506A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DA77-F411-4B6C-9561-208CD0D0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A61B-E39E-4DC7-BBEC-264CDD6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81CC-3228-4878-BF50-3625C33A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62D-8BF3-4DD2-B0BA-B281FCC6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CC51-4E40-427A-8708-31E706C7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A908-5A30-4319-8E09-527730D5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3977-D935-4744-A2A8-25AD8285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FFA59-1BCC-4956-B27C-1BD4921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963C-3E61-42C4-AA02-F69374B1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195F4-F26B-4C78-BB88-1D4D8363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630D-33B5-4415-AFE9-80479A6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BB37F-8604-4AC4-B460-2EF4286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C8AE-A844-425C-84BE-03B2869B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46787-F283-4A95-A972-B9C31956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204-6B11-4E58-94F1-F3F27CC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B174-2E7A-487E-8BC4-2906DE5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1574E-4007-4C5E-ADE7-151CFAE3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35F2D-80A1-430F-A3E9-04F1ABF3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167DD-19B7-4B14-8030-0D2CDF10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D8E14-5A09-44C2-AA08-DB6F006D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A0CA-012D-4FCB-9215-A683841C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076FC-8901-4667-8D88-92945DF5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56A52-C666-4D00-B7A0-01FE39D1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5169E-B6D1-4293-9867-BCD5AFD1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A6A9-7A4F-4D20-A1C6-184E9C3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939-708A-4606-9112-49F28B7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F9E9-8EE3-4C1A-86E6-DA206FA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2B0B-4359-4B5B-A816-92AD489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8602-4C98-44F4-8269-47AA6870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CDF60-432F-4470-9777-6472995D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23D6-8DB5-4F2B-A501-37B7529C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D447-5C64-4A32-8A91-762359F2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403EA-1E2A-47AD-83AA-9E460AF2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B4BB-E793-41E9-8C64-AE966F3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8EA03-6DA6-4B10-995C-6F04439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D2757-DE3E-4CFF-B483-4FA6359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E06-31B6-40BC-8E9D-BA96258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B1C6-3C5D-4C2E-8DC6-6C9D45E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FD94-03DA-4EFB-B262-1B40E2C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A83A6-4D53-4FD7-B8E8-AD264FA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FCA3-9031-45FA-B304-CC2C03C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E1E5-24DD-423D-BA36-7331353C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7575-0F6F-49CC-AF1F-FC2A304E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30EC-9F15-4BB1-AA85-88D2EC1B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24256-03F6-4170-A4B7-2454402D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19BCA-0BA7-472E-AF31-59AE1B76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4C62A-657B-474C-98A2-511794B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3E5-7C16-4E01-99ED-3F9B00F11CA0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FDBD-A7BD-4AF1-BAFD-089C06DEB331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094D-9C59-4A1F-A1BF-B8BDC75FABEE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E15-3DB2-4C26-9DA8-C6AABC06C21E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BF86-DDFF-44C3-9A97-B068EBB79F9C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09F-C45D-4592-B16E-85B3900C9B3E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4FFF-B644-491F-824A-DDE6FBFDE60B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25C-750D-423C-9685-9D73B6676CFF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DD7D-8814-48E9-A8A1-05020648AA1B}" type="slidenum">
              <a:rPr b="0" lang="ru-RU" sz="1200" spc="-1" strike="noStrike">
                <a:solidFill>
                  <a:srgbClr val="b5a3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6324480" cy="4724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Franklin Gothic Medium"/>
              </a:rPr>
              <a:t> </a:t>
            </a:r>
            <a:r>
              <a:rPr b="1" i="1" lang="ru-RU" sz="4300" spc="-1" strike="noStrike">
                <a:solidFill>
                  <a:srgbClr val="002060"/>
                </a:solidFill>
                <a:latin typeface="Franklin Gothic Medium"/>
              </a:rPr>
              <a:t>ИСПОЛНЕНИЕ</a:t>
            </a:r>
            <a:br>
              <a:rPr sz="4300"/>
            </a:br>
            <a:r>
              <a:rPr b="1" i="1" lang="ru-RU" sz="4300" spc="-1" strike="noStrike">
                <a:solidFill>
                  <a:srgbClr val="002060"/>
                </a:solidFill>
                <a:latin typeface="Franklin Gothic Medium"/>
              </a:rPr>
              <a:t>БЮДЖЕТА </a:t>
            </a:r>
            <a:br>
              <a:rPr sz="4300"/>
            </a:br>
            <a:r>
              <a:rPr b="1" i="1" lang="ru-RU" sz="4300" spc="-1" strike="noStrike">
                <a:solidFill>
                  <a:srgbClr val="002060"/>
                </a:solidFill>
                <a:latin typeface="Franklin Gothic Medium"/>
              </a:rPr>
              <a:t>РОДНИКОВСКОГО ГОРОДСКОГО ПОСЕЛЕНИЯ   </a:t>
            </a:r>
            <a:br>
              <a:rPr sz="4300"/>
            </a:br>
            <a:r>
              <a:rPr b="1" i="1" lang="ru-RU" sz="4300" spc="-1" strike="noStrike">
                <a:solidFill>
                  <a:srgbClr val="002060"/>
                </a:solidFill>
                <a:latin typeface="Franklin Gothic Medium"/>
              </a:rPr>
              <a:t>ЗА 2019 ГОД</a:t>
            </a:r>
            <a:endParaRPr b="0" lang="en-US" sz="4300" spc="-1" strike="noStrike">
              <a:solidFill>
                <a:srgbClr val="69676d"/>
              </a:solidFill>
              <a:latin typeface="Franklin Gothic Medium"/>
            </a:endParaRPr>
          </a:p>
        </p:txBody>
      </p:sp>
      <p:pic>
        <p:nvPicPr>
          <p:cNvPr id="400" name="Рисунок 2" descr="h-184[1].jpg"/>
          <p:cNvPicPr/>
          <p:nvPr/>
        </p:nvPicPr>
        <p:blipFill>
          <a:blip r:embed="rId2"/>
          <a:stretch/>
        </p:blipFill>
        <p:spPr>
          <a:xfrm>
            <a:off x="5715000" y="533520"/>
            <a:ext cx="3352680" cy="2171520"/>
          </a:xfrm>
          <a:prstGeom prst="rect">
            <a:avLst/>
          </a:prstGeom>
          <a:ln w="0">
            <a:noFill/>
          </a:ln>
        </p:spPr>
      </p:pic>
      <p:sp>
        <p:nvSpPr>
          <p:cNvPr id="401" name="5-конечная звезда 3"/>
          <p:cNvSpPr/>
          <p:nvPr/>
        </p:nvSpPr>
        <p:spPr>
          <a:xfrm>
            <a:off x="7772400" y="3886200"/>
            <a:ext cx="1066680" cy="182880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-конечная звезда 4"/>
          <p:cNvSpPr/>
          <p:nvPr/>
        </p:nvSpPr>
        <p:spPr>
          <a:xfrm>
            <a:off x="7162920" y="3048120"/>
            <a:ext cx="1066680" cy="99036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5-конечная звезда 5"/>
          <p:cNvSpPr/>
          <p:nvPr/>
        </p:nvSpPr>
        <p:spPr>
          <a:xfrm>
            <a:off x="5562720" y="5943600"/>
            <a:ext cx="1981080" cy="68580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8315280" cy="16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380880" y="1905120"/>
          <a:ext cx="8534520" cy="3805200"/>
        </p:xfrm>
        <a:graphic>
          <a:graphicData uri="http://schemas.openxmlformats.org/drawingml/2006/table">
            <a:tbl>
              <a:tblPr/>
              <a:tblGrid>
                <a:gridCol w="3581640"/>
                <a:gridCol w="2057400"/>
                <a:gridCol w="1712880"/>
                <a:gridCol w="11826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тверж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  ис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6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80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9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 бюдж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4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87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(-) профицит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7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974960"/>
          </a:xfrm>
          <a:prstGeom prst="rect">
            <a:avLst/>
          </a:prstGeom>
          <a:ln w="0">
            <a:noFill/>
          </a:ln>
        </p:spPr>
      </p:pic>
      <p:sp>
        <p:nvSpPr>
          <p:cNvPr id="407" name="Выноска-облако 2"/>
          <p:cNvSpPr/>
          <p:nvPr/>
        </p:nvSpPr>
        <p:spPr>
          <a:xfrm>
            <a:off x="457200" y="1981080"/>
            <a:ext cx="3809880" cy="175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Доход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154802,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инус 3"/>
          <p:cNvSpPr/>
          <p:nvPr/>
        </p:nvSpPr>
        <p:spPr>
          <a:xfrm>
            <a:off x="4572000" y="2666880"/>
            <a:ext cx="762120" cy="30492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Выноска-облако 4"/>
          <p:cNvSpPr/>
          <p:nvPr/>
        </p:nvSpPr>
        <p:spPr>
          <a:xfrm>
            <a:off x="5638680" y="1905120"/>
            <a:ext cx="3124440" cy="1828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Расходы 139878,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Равно 5"/>
          <p:cNvSpPr/>
          <p:nvPr/>
        </p:nvSpPr>
        <p:spPr>
          <a:xfrm>
            <a:off x="4267080" y="3657600"/>
            <a:ext cx="990720" cy="38088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Выноска-облако 6"/>
          <p:cNvSpPr/>
          <p:nvPr/>
        </p:nvSpPr>
        <p:spPr>
          <a:xfrm>
            <a:off x="1981080" y="4495680"/>
            <a:ext cx="5029200" cy="152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профиц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14923,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Franklin Gothic Medium"/>
                <a:ea typeface="Aharoni"/>
              </a:rPr>
              <a:t>ИСПОЛНЕНИЕ</a:t>
            </a:r>
            <a:r>
              <a:rPr b="1" i="1" lang="ru-RU" sz="3200" spc="-1" strike="noStrike">
                <a:solidFill>
                  <a:srgbClr val="0070c0"/>
                </a:solidFill>
                <a:latin typeface="Franklin Gothic Medium"/>
              </a:rPr>
              <a:t> ДОХОДОВ БЮДЖЕТА РОДНИКОВСКОГО ГОРОДСКОГО ПОСЕЛЕНИЯ ЗА 2019 ГОД</a:t>
            </a:r>
            <a:endParaRPr b="0" lang="en-US" sz="32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80880" y="1905120"/>
          <a:ext cx="8294760" cy="3871800"/>
        </p:xfrm>
        <a:graphic>
          <a:graphicData uri="http://schemas.openxmlformats.org/drawingml/2006/table">
            <a:tbl>
              <a:tblPr/>
              <a:tblGrid>
                <a:gridCol w="3768840"/>
                <a:gridCol w="1601640"/>
                <a:gridCol w="1598760"/>
                <a:gridCol w="132552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e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e6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 - ВСЕ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6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80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39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8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7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54080" y="115920"/>
            <a:ext cx="7888320" cy="1639800"/>
          </a:xfrm>
          <a:prstGeom prst="rect">
            <a:avLst/>
          </a:prstGeom>
          <a:ln w="0">
            <a:noFill/>
          </a:ln>
        </p:spPr>
      </p:pic>
      <p:pic>
        <p:nvPicPr>
          <p:cNvPr id="415" name="Диаграмма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85280" cy="48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542880" y="165240"/>
            <a:ext cx="8296200" cy="180324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3" descr=""/>
          <p:cNvPicPr/>
          <p:nvPr/>
        </p:nvPicPr>
        <p:blipFill>
          <a:blip r:embed="rId2"/>
          <a:stretch/>
        </p:blipFill>
        <p:spPr>
          <a:xfrm>
            <a:off x="330120" y="2006640"/>
            <a:ext cx="8483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43080" y="85680"/>
            <a:ext cx="7797600" cy="167004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3" descr=""/>
          <p:cNvPicPr/>
          <p:nvPr/>
        </p:nvPicPr>
        <p:blipFill>
          <a:blip r:embed="rId2"/>
          <a:stretch/>
        </p:blipFill>
        <p:spPr>
          <a:xfrm>
            <a:off x="635040" y="1806480"/>
            <a:ext cx="80010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701640" y="133200"/>
            <a:ext cx="807084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380880" y="2286000"/>
          <a:ext cx="8382240" cy="4414680"/>
        </p:xfrm>
        <a:graphic>
          <a:graphicData uri="http://schemas.openxmlformats.org/drawingml/2006/table">
            <a:tbl>
              <a:tblPr/>
              <a:tblGrid>
                <a:gridCol w="3505320"/>
                <a:gridCol w="1697040"/>
                <a:gridCol w="1474920"/>
                <a:gridCol w="1704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 раз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сполн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 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269 75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887 388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55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5 25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5 17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9,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78 95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39 392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,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5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5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54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804 28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761 56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7,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4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4 74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9,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4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4 74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9,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6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 РАСХОД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 575 159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 575 159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768240" y="-115920"/>
            <a:ext cx="7925040" cy="22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304920" y="1600200"/>
          <a:ext cx="8534160" cy="4811760"/>
        </p:xfrm>
        <a:graphic>
          <a:graphicData uri="http://schemas.openxmlformats.org/drawingml/2006/table">
            <a:tbl>
              <a:tblPr/>
              <a:tblGrid>
                <a:gridCol w="3932280"/>
                <a:gridCol w="1576080"/>
                <a:gridCol w="1854360"/>
                <a:gridCol w="1171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Благоустройство территории Родниковского городского поселен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 559 87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 437 37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рофилактика правонарушений и обеспечение безопасности граждан на территории Родниковского городского поселения 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 870 7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023 68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3,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оциальная забота и поддержк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1 4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25 984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,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Культурное пространство города Родник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4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4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Развитие жилищно-коммунального хозяйства в Родниковском городском поселени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Формирование современной городской среды на территории муниципального образования "Родниковское городское поселени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 433 7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 433 7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222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3 110 13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6 437 417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5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а Оболенская</dc:creator>
  <dc:description/>
  <dc:language>en-US</dc:language>
  <cp:lastModifiedBy>subbotinaos</cp:lastModifiedBy>
  <dcterms:modified xsi:type="dcterms:W3CDTF">2020-01-27T10:57:21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